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6630339-508A-4B45-9E3A-21DBCCF06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8F6586A-19D1-42EB-8D8B-681225F70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25BEB0F-D92F-4581-8E1C-AA68B33DA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09BA80E-AE29-4FF9-96B5-21841393C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0DA6BD9-D14F-42FA-9865-15C00A8C1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353EDBE-4C8A-445D-9F43-20B43FEC9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77B0F9D-B65F-4F1C-9F07-35C7A8623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995BF12-103A-4F21-AF99-1296C7B35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DAD25F0-66E7-41DE-88DB-2B7422CEA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9C9D5B4-EC83-4C78-8043-1D1715233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E947732-3AA8-48FC-A127-AFD13DD5E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24D8BBB-4BE0-4C2F-85EB-14134B291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B10ED92-6204-41FB-8732-5D9080A14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B55F7F7-FDDC-455C-99CB-306EA39DB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6 - </a:t>
            </a:r>
            <a:fld id="{F94E4F9E-EF40-428F-8480-20F3592A5260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2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202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notate a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Up a Slid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a Custom Slid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Hyperlinks and Action Butt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rd a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ustomizing a Slide Show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Action Settings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744640" y="1876320"/>
            <a:ext cx="350532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Record Slide Show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2952720" y="3181320"/>
            <a:ext cx="321948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Recording Shortcut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2"/>
          <p:cNvGrpSpPr/>
          <p:nvPr/>
        </p:nvGrpSpPr>
        <p:grpSpPr>
          <a:xfrm>
            <a:off x="1371600" y="2529000"/>
            <a:ext cx="6356520" cy="2320920"/>
            <a:chOff x="1371600" y="2529000"/>
            <a:chExt cx="6356520" cy="2320920"/>
          </a:xfrm>
        </p:grpSpPr>
        <p:pic>
          <p:nvPicPr>
            <p:cNvPr id="129" name="Picture 1" descr=""/>
            <p:cNvPicPr/>
            <p:nvPr/>
          </p:nvPicPr>
          <p:blipFill>
            <a:blip r:embed="rId1"/>
            <a:stretch/>
          </p:blipFill>
          <p:spPr>
            <a:xfrm>
              <a:off x="3047760" y="3243960"/>
              <a:ext cx="238068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Line 167"/>
            <p:cNvSpPr/>
            <p:nvPr/>
          </p:nvSpPr>
          <p:spPr>
            <a:xfrm>
              <a:off x="3216600" y="3922920"/>
              <a:ext cx="0" cy="69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ounded Rectangle 5"/>
            <p:cNvSpPr/>
            <p:nvPr/>
          </p:nvSpPr>
          <p:spPr>
            <a:xfrm>
              <a:off x="1371600" y="4466520"/>
              <a:ext cx="1941840" cy="383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ext Butt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67"/>
            <p:cNvSpPr/>
            <p:nvPr/>
          </p:nvSpPr>
          <p:spPr>
            <a:xfrm>
              <a:off x="3517560" y="3922920"/>
              <a:ext cx="0" cy="69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ounded Rectangle 6"/>
            <p:cNvSpPr/>
            <p:nvPr/>
          </p:nvSpPr>
          <p:spPr>
            <a:xfrm>
              <a:off x="3405600" y="4271400"/>
              <a:ext cx="1941840" cy="578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ause Record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utt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ounded Rectangle 8"/>
            <p:cNvSpPr/>
            <p:nvPr/>
          </p:nvSpPr>
          <p:spPr>
            <a:xfrm>
              <a:off x="5623200" y="3921120"/>
              <a:ext cx="2104920" cy="383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otal Elapsed Tim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328"/>
            <p:cNvGrpSpPr/>
            <p:nvPr/>
          </p:nvGrpSpPr>
          <p:grpSpPr>
            <a:xfrm>
              <a:off x="5429520" y="3686040"/>
              <a:ext cx="757800" cy="284760"/>
              <a:chOff x="5429520" y="3686040"/>
              <a:chExt cx="757800" cy="284760"/>
            </a:xfrm>
          </p:grpSpPr>
          <p:sp>
            <p:nvSpPr>
              <p:cNvPr id="136" name="Line 329"/>
              <p:cNvSpPr/>
              <p:nvPr/>
            </p:nvSpPr>
            <p:spPr>
              <a:xfrm flipV="1">
                <a:off x="6169680" y="3686040"/>
                <a:ext cx="0" cy="28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330"/>
              <p:cNvSpPr/>
              <p:nvPr/>
            </p:nvSpPr>
            <p:spPr>
              <a:xfrm>
                <a:off x="5429520" y="3686400"/>
                <a:ext cx="757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Line 167"/>
            <p:cNvSpPr/>
            <p:nvPr/>
          </p:nvSpPr>
          <p:spPr>
            <a:xfrm flipV="1">
              <a:off x="4119120" y="2590560"/>
              <a:ext cx="0" cy="839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ounded Rectangle 13"/>
            <p:cNvSpPr/>
            <p:nvPr/>
          </p:nvSpPr>
          <p:spPr>
            <a:xfrm>
              <a:off x="2415600" y="2550960"/>
              <a:ext cx="1941840" cy="383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urrent Slide Tim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67"/>
            <p:cNvSpPr/>
            <p:nvPr/>
          </p:nvSpPr>
          <p:spPr>
            <a:xfrm flipV="1">
              <a:off x="4632840" y="2554200"/>
              <a:ext cx="0" cy="839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ounded Rectangle 15"/>
            <p:cNvSpPr/>
            <p:nvPr/>
          </p:nvSpPr>
          <p:spPr>
            <a:xfrm>
              <a:off x="4457880" y="2529000"/>
              <a:ext cx="1941840" cy="383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epeat Butt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uld you have any reservations about presenting during a live event by using a fully automated slide show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you think of a time when creating custom slide shows for various events could have saved you a significant amount of rewor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nn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486160" y="2381400"/>
            <a:ext cx="3933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Presenter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5"/>
          <p:cNvGrpSpPr/>
          <p:nvPr/>
        </p:nvGrpSpPr>
        <p:grpSpPr>
          <a:xfrm>
            <a:off x="1089000" y="1746360"/>
            <a:ext cx="6607080" cy="4286160"/>
            <a:chOff x="1089000" y="1746360"/>
            <a:chExt cx="6607080" cy="4286160"/>
          </a:xfrm>
        </p:grpSpPr>
        <p:pic>
          <p:nvPicPr>
            <p:cNvPr id="55" name="Picture 3" descr=""/>
            <p:cNvPicPr/>
            <p:nvPr/>
          </p:nvPicPr>
          <p:blipFill>
            <a:blip r:embed="rId1"/>
            <a:stretch/>
          </p:blipFill>
          <p:spPr>
            <a:xfrm>
              <a:off x="2419200" y="1994760"/>
              <a:ext cx="5038920" cy="342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Line 144"/>
            <p:cNvSpPr/>
            <p:nvPr/>
          </p:nvSpPr>
          <p:spPr>
            <a:xfrm flipH="1">
              <a:off x="3200400" y="1883520"/>
              <a:ext cx="298800" cy="5540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1"/>
            <p:cNvGrpSpPr/>
            <p:nvPr/>
          </p:nvGrpSpPr>
          <p:grpSpPr>
            <a:xfrm>
              <a:off x="3834360" y="5409360"/>
              <a:ext cx="356400" cy="196200"/>
              <a:chOff x="3834360" y="5409360"/>
              <a:chExt cx="356400" cy="196200"/>
            </a:xfrm>
          </p:grpSpPr>
          <p:sp>
            <p:nvSpPr>
              <p:cNvPr id="58" name="Line 329"/>
              <p:cNvSpPr/>
              <p:nvPr/>
            </p:nvSpPr>
            <p:spPr>
              <a:xfrm>
                <a:off x="3834360" y="5605560"/>
                <a:ext cx="356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330"/>
              <p:cNvSpPr/>
              <p:nvPr/>
            </p:nvSpPr>
            <p:spPr>
              <a:xfrm>
                <a:off x="4187160" y="5409360"/>
                <a:ext cx="0" cy="195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Rounded Rectangle 7"/>
            <p:cNvSpPr/>
            <p:nvPr/>
          </p:nvSpPr>
          <p:spPr>
            <a:xfrm>
              <a:off x="3200400" y="1747800"/>
              <a:ext cx="1628640" cy="27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ause/Resume Tim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ounded Rectangle 9"/>
            <p:cNvSpPr/>
            <p:nvPr/>
          </p:nvSpPr>
          <p:spPr>
            <a:xfrm>
              <a:off x="2286000" y="5381640"/>
              <a:ext cx="1598400" cy="27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avigation Contro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44"/>
            <p:cNvSpPr/>
            <p:nvPr/>
          </p:nvSpPr>
          <p:spPr>
            <a:xfrm>
              <a:off x="2590560" y="3841200"/>
              <a:ext cx="460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ounded Rectangle 13"/>
            <p:cNvSpPr/>
            <p:nvPr/>
          </p:nvSpPr>
          <p:spPr>
            <a:xfrm>
              <a:off x="1089000" y="3687840"/>
              <a:ext cx="1623960" cy="27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urrent Slide Ima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" name="Straight Arrow Connector 20"/>
            <p:cNvCxnSpPr/>
            <p:nvPr/>
          </p:nvCxnSpPr>
          <p:spPr>
            <a:xfrm>
              <a:off x="6698880" y="1883880"/>
              <a:ext cx="1080" cy="5929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65" name="Line 144"/>
            <p:cNvSpPr/>
            <p:nvPr/>
          </p:nvSpPr>
          <p:spPr>
            <a:xfrm flipV="1">
              <a:off x="7086600" y="4741560"/>
              <a:ext cx="0" cy="9129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ounded Rectangle 22"/>
            <p:cNvSpPr/>
            <p:nvPr/>
          </p:nvSpPr>
          <p:spPr>
            <a:xfrm>
              <a:off x="6558120" y="5381640"/>
              <a:ext cx="1137960" cy="272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otes Pa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44"/>
            <p:cNvSpPr/>
            <p:nvPr/>
          </p:nvSpPr>
          <p:spPr>
            <a:xfrm>
              <a:off x="2398680" y="2476800"/>
              <a:ext cx="3441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ounded Rectangle 24"/>
            <p:cNvSpPr/>
            <p:nvPr/>
          </p:nvSpPr>
          <p:spPr>
            <a:xfrm>
              <a:off x="1089000" y="2306520"/>
              <a:ext cx="1425600" cy="27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lide Show Tim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ounded Rectangle 25"/>
            <p:cNvSpPr/>
            <p:nvPr/>
          </p:nvSpPr>
          <p:spPr>
            <a:xfrm>
              <a:off x="5981760" y="1746360"/>
              <a:ext cx="1476360" cy="27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ext Slide Preview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Group 23"/>
            <p:cNvGrpSpPr/>
            <p:nvPr/>
          </p:nvGrpSpPr>
          <p:grpSpPr>
            <a:xfrm>
              <a:off x="2637360" y="2580480"/>
              <a:ext cx="712080" cy="298440"/>
              <a:chOff x="2637360" y="2580480"/>
              <a:chExt cx="712080" cy="298440"/>
            </a:xfrm>
          </p:grpSpPr>
          <p:sp>
            <p:nvSpPr>
              <p:cNvPr id="71" name="Line 329"/>
              <p:cNvSpPr/>
              <p:nvPr/>
            </p:nvSpPr>
            <p:spPr>
              <a:xfrm>
                <a:off x="2637360" y="2878920"/>
                <a:ext cx="712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330"/>
              <p:cNvSpPr/>
              <p:nvPr/>
            </p:nvSpPr>
            <p:spPr>
              <a:xfrm>
                <a:off x="3341880" y="2580480"/>
                <a:ext cx="0" cy="297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Rounded Rectangle 28"/>
            <p:cNvSpPr/>
            <p:nvPr/>
          </p:nvSpPr>
          <p:spPr>
            <a:xfrm>
              <a:off x="1089000" y="2655720"/>
              <a:ext cx="1598400" cy="27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estart Timer Butt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44"/>
            <p:cNvSpPr/>
            <p:nvPr/>
          </p:nvSpPr>
          <p:spPr>
            <a:xfrm>
              <a:off x="2376360" y="4858560"/>
              <a:ext cx="3441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ounded Rectangle 30"/>
            <p:cNvSpPr/>
            <p:nvPr/>
          </p:nvSpPr>
          <p:spPr>
            <a:xfrm>
              <a:off x="1089000" y="4648320"/>
              <a:ext cx="1425600" cy="34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en/Laser Poin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oo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31"/>
            <p:cNvGrpSpPr/>
            <p:nvPr/>
          </p:nvGrpSpPr>
          <p:grpSpPr>
            <a:xfrm>
              <a:off x="2650680" y="4995000"/>
              <a:ext cx="434160" cy="196200"/>
              <a:chOff x="2650680" y="4995000"/>
              <a:chExt cx="434160" cy="196200"/>
            </a:xfrm>
          </p:grpSpPr>
          <p:sp>
            <p:nvSpPr>
              <p:cNvPr id="77" name="Line 329"/>
              <p:cNvSpPr/>
              <p:nvPr/>
            </p:nvSpPr>
            <p:spPr>
              <a:xfrm>
                <a:off x="2650680" y="5191200"/>
                <a:ext cx="4341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330"/>
              <p:cNvSpPr/>
              <p:nvPr/>
            </p:nvSpPr>
            <p:spPr>
              <a:xfrm>
                <a:off x="3080160" y="4995000"/>
                <a:ext cx="0" cy="1954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Rounded Rectangle 34"/>
            <p:cNvSpPr/>
            <p:nvPr/>
          </p:nvSpPr>
          <p:spPr>
            <a:xfrm>
              <a:off x="1089000" y="5053320"/>
              <a:ext cx="1641240" cy="276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e All Slides Butt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325"/>
            <p:cNvGrpSpPr/>
            <p:nvPr/>
          </p:nvGrpSpPr>
          <p:grpSpPr>
            <a:xfrm>
              <a:off x="2705400" y="4363920"/>
              <a:ext cx="667440" cy="304560"/>
              <a:chOff x="2705400" y="4363920"/>
              <a:chExt cx="667440" cy="304560"/>
            </a:xfrm>
          </p:grpSpPr>
          <p:sp>
            <p:nvSpPr>
              <p:cNvPr id="81" name="Line 326"/>
              <p:cNvSpPr/>
              <p:nvPr/>
            </p:nvSpPr>
            <p:spPr>
              <a:xfrm>
                <a:off x="2705400" y="4370760"/>
                <a:ext cx="667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327"/>
              <p:cNvSpPr/>
              <p:nvPr/>
            </p:nvSpPr>
            <p:spPr>
              <a:xfrm flipV="1">
                <a:off x="3372840" y="436392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Rounded Rectangle 38"/>
            <p:cNvSpPr/>
            <p:nvPr/>
          </p:nvSpPr>
          <p:spPr>
            <a:xfrm>
              <a:off x="1089000" y="4191120"/>
              <a:ext cx="1623960" cy="380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Zoom Into the Slide Butt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39"/>
            <p:cNvGrpSpPr/>
            <p:nvPr/>
          </p:nvGrpSpPr>
          <p:grpSpPr>
            <a:xfrm>
              <a:off x="3657960" y="4440960"/>
              <a:ext cx="711720" cy="228240"/>
              <a:chOff x="3657960" y="4440960"/>
              <a:chExt cx="711720" cy="228240"/>
            </a:xfrm>
          </p:grpSpPr>
          <p:sp>
            <p:nvSpPr>
              <p:cNvPr id="85" name="Line 329"/>
              <p:cNvSpPr/>
              <p:nvPr/>
            </p:nvSpPr>
            <p:spPr>
              <a:xfrm flipH="1">
                <a:off x="3657960" y="4440960"/>
                <a:ext cx="711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330"/>
              <p:cNvSpPr/>
              <p:nvPr/>
            </p:nvSpPr>
            <p:spPr>
              <a:xfrm flipV="1">
                <a:off x="3664800" y="4440960"/>
                <a:ext cx="0" cy="22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Rounded Rectangle 42"/>
            <p:cNvSpPr/>
            <p:nvPr/>
          </p:nvSpPr>
          <p:spPr>
            <a:xfrm>
              <a:off x="4305240" y="4191120"/>
              <a:ext cx="1596960" cy="380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lack/Unblack Slide Butt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Group 43"/>
            <p:cNvGrpSpPr/>
            <p:nvPr/>
          </p:nvGrpSpPr>
          <p:grpSpPr>
            <a:xfrm>
              <a:off x="4075920" y="4838400"/>
              <a:ext cx="1085400" cy="542880"/>
              <a:chOff x="4075920" y="4838400"/>
              <a:chExt cx="1085400" cy="542880"/>
            </a:xfrm>
          </p:grpSpPr>
          <p:sp>
            <p:nvSpPr>
              <p:cNvPr id="89" name="Line 329"/>
              <p:cNvSpPr/>
              <p:nvPr/>
            </p:nvSpPr>
            <p:spPr>
              <a:xfrm flipV="1">
                <a:off x="5161320" y="4838400"/>
                <a:ext cx="0" cy="5428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330"/>
              <p:cNvSpPr/>
              <p:nvPr/>
            </p:nvSpPr>
            <p:spPr>
              <a:xfrm>
                <a:off x="4075920" y="4844160"/>
                <a:ext cx="108468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Line 144"/>
            <p:cNvSpPr/>
            <p:nvPr/>
          </p:nvSpPr>
          <p:spPr>
            <a:xfrm flipV="1">
              <a:off x="6019920" y="54244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ounded Rectangle 46"/>
            <p:cNvSpPr/>
            <p:nvPr/>
          </p:nvSpPr>
          <p:spPr>
            <a:xfrm>
              <a:off x="4290840" y="5381640"/>
              <a:ext cx="1596960" cy="333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ore Slide Show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ptions Butt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ounded Rectangle 50"/>
            <p:cNvSpPr/>
            <p:nvPr/>
          </p:nvSpPr>
          <p:spPr>
            <a:xfrm>
              <a:off x="4495680" y="5758200"/>
              <a:ext cx="2814480" cy="27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ke Text Larger/Smaller Butto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Set Up Show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0770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Custom Shows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2666880" y="3035160"/>
            <a:ext cx="38102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Define Custom Show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"/>
          <p:cNvGrpSpPr/>
          <p:nvPr/>
        </p:nvGrpSpPr>
        <p:grpSpPr>
          <a:xfrm>
            <a:off x="1447920" y="2133720"/>
            <a:ext cx="6248160" cy="3328920"/>
            <a:chOff x="1447920" y="2133720"/>
            <a:chExt cx="6248160" cy="3328920"/>
          </a:xfrm>
        </p:grpSpPr>
        <p:pic>
          <p:nvPicPr>
            <p:cNvPr id="100" name="Picture 2" descr=""/>
            <p:cNvPicPr/>
            <p:nvPr/>
          </p:nvPicPr>
          <p:blipFill>
            <a:blip r:embed="rId1"/>
            <a:stretch/>
          </p:blipFill>
          <p:spPr>
            <a:xfrm>
              <a:off x="1447920" y="2133720"/>
              <a:ext cx="6248160" cy="285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Line 167"/>
            <p:cNvSpPr/>
            <p:nvPr/>
          </p:nvSpPr>
          <p:spPr>
            <a:xfrm flipH="1">
              <a:off x="3020760" y="4320000"/>
              <a:ext cx="4680" cy="87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ounded Rectangle 4"/>
            <p:cNvSpPr/>
            <p:nvPr/>
          </p:nvSpPr>
          <p:spPr>
            <a:xfrm>
              <a:off x="2287440" y="5081760"/>
              <a:ext cx="1751040" cy="380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riginal Presentation Slid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67"/>
            <p:cNvSpPr/>
            <p:nvPr/>
          </p:nvSpPr>
          <p:spPr>
            <a:xfrm>
              <a:off x="5229720" y="4090680"/>
              <a:ext cx="0" cy="98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ounded Rectangle 6"/>
            <p:cNvSpPr/>
            <p:nvPr/>
          </p:nvSpPr>
          <p:spPr>
            <a:xfrm>
              <a:off x="4514760" y="5081760"/>
              <a:ext cx="1477800" cy="380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ustom Slid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how Slid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yper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801800" y="1866960"/>
            <a:ext cx="52545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Insert Hyperlink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1173240" y="2104920"/>
            <a:ext cx="6751440" cy="3554640"/>
            <a:chOff x="1173240" y="2104920"/>
            <a:chExt cx="6751440" cy="3554640"/>
          </a:xfrm>
        </p:grpSpPr>
        <p:pic>
          <p:nvPicPr>
            <p:cNvPr id="109" name="Picture 2" descr=""/>
            <p:cNvPicPr/>
            <p:nvPr/>
          </p:nvPicPr>
          <p:blipFill>
            <a:blip r:embed="rId1"/>
            <a:stretch/>
          </p:blipFill>
          <p:spPr>
            <a:xfrm>
              <a:off x="1696320" y="2104920"/>
              <a:ext cx="6228360" cy="32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AutoShape 303"/>
            <p:cNvSpPr/>
            <p:nvPr/>
          </p:nvSpPr>
          <p:spPr>
            <a:xfrm flipH="1">
              <a:off x="1571760" y="2743920"/>
              <a:ext cx="264960" cy="2372040"/>
            </a:xfrm>
            <a:custGeom>
              <a:avLst/>
              <a:gdLst>
                <a:gd name="textAreaLeft" fmla="*/ 0 w 264960"/>
                <a:gd name="textAreaRight" fmla="*/ 95760 w 264960"/>
                <a:gd name="textAreaTop" fmla="*/ 54360 h 2372040"/>
                <a:gd name="textAreaBottom" fmla="*/ 2317680 h 237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795"/>
                    <a:pt x="10800" y="1590"/>
                  </a:cubicBezTo>
                  <a:lnTo>
                    <a:pt x="10800" y="9210"/>
                  </a:lnTo>
                  <a:cubicBezTo>
                    <a:pt x="10800" y="10005"/>
                    <a:pt x="16200" y="10800"/>
                    <a:pt x="21600" y="10800"/>
                  </a:cubicBezTo>
                  <a:cubicBezTo>
                    <a:pt x="16200" y="10800"/>
                    <a:pt x="10800" y="11595"/>
                    <a:pt x="10800" y="12390"/>
                  </a:cubicBezTo>
                  <a:lnTo>
                    <a:pt x="10800" y="20010"/>
                  </a:lnTo>
                  <a:cubicBezTo>
                    <a:pt x="10800" y="20805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325"/>
            <p:cNvGrpSpPr/>
            <p:nvPr/>
          </p:nvGrpSpPr>
          <p:grpSpPr>
            <a:xfrm>
              <a:off x="1351800" y="3929400"/>
              <a:ext cx="182520" cy="1525320"/>
              <a:chOff x="1351800" y="3929400"/>
              <a:chExt cx="182520" cy="1525320"/>
            </a:xfrm>
          </p:grpSpPr>
          <p:sp>
            <p:nvSpPr>
              <p:cNvPr id="112" name="Line 326"/>
              <p:cNvSpPr/>
              <p:nvPr/>
            </p:nvSpPr>
            <p:spPr>
              <a:xfrm flipV="1">
                <a:off x="1356120" y="3929400"/>
                <a:ext cx="0" cy="1525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327"/>
              <p:cNvSpPr/>
              <p:nvPr/>
            </p:nvSpPr>
            <p:spPr>
              <a:xfrm flipH="1">
                <a:off x="1351800" y="3929760"/>
                <a:ext cx="182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ounded Rectangle 5"/>
            <p:cNvSpPr/>
            <p:nvPr/>
          </p:nvSpPr>
          <p:spPr>
            <a:xfrm>
              <a:off x="1173240" y="5401080"/>
              <a:ext cx="1436400" cy="258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ink to Optio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ction But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"/>
          <p:cNvGrpSpPr/>
          <p:nvPr/>
        </p:nvGrpSpPr>
        <p:grpSpPr>
          <a:xfrm>
            <a:off x="2286000" y="2190600"/>
            <a:ext cx="4524480" cy="3448080"/>
            <a:chOff x="2286000" y="2190600"/>
            <a:chExt cx="4524480" cy="3448080"/>
          </a:xfrm>
        </p:grpSpPr>
        <p:pic>
          <p:nvPicPr>
            <p:cNvPr id="117" name="Picture 2" descr=""/>
            <p:cNvPicPr/>
            <p:nvPr/>
          </p:nvPicPr>
          <p:blipFill>
            <a:blip r:embed="rId1"/>
            <a:stretch/>
          </p:blipFill>
          <p:spPr>
            <a:xfrm>
              <a:off x="2286000" y="2190600"/>
              <a:ext cx="4194360" cy="318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AutoShape 303"/>
            <p:cNvSpPr/>
            <p:nvPr/>
          </p:nvSpPr>
          <p:spPr>
            <a:xfrm flipH="1" rot="16200000">
              <a:off x="3124800" y="4620240"/>
              <a:ext cx="156960" cy="1034280"/>
            </a:xfrm>
            <a:custGeom>
              <a:avLst/>
              <a:gdLst>
                <a:gd name="textAreaLeft" fmla="*/ 360 w 156960"/>
                <a:gd name="textAreaRight" fmla="*/ 56880 w 156960"/>
                <a:gd name="textAreaTop" fmla="*/ 32040 h 1034280"/>
                <a:gd name="textAreaBottom" fmla="*/ 1002240 h 103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076"/>
                    <a:pt x="10800" y="2151"/>
                  </a:cubicBezTo>
                  <a:lnTo>
                    <a:pt x="10800" y="8649"/>
                  </a:lnTo>
                  <a:cubicBezTo>
                    <a:pt x="10800" y="9725"/>
                    <a:pt x="16200" y="10800"/>
                    <a:pt x="21600" y="10800"/>
                  </a:cubicBezTo>
                  <a:cubicBezTo>
                    <a:pt x="16200" y="10800"/>
                    <a:pt x="10800" y="11876"/>
                    <a:pt x="10800" y="12951"/>
                  </a:cubicBezTo>
                  <a:lnTo>
                    <a:pt x="10800" y="19449"/>
                  </a:lnTo>
                  <a:cubicBezTo>
                    <a:pt x="10800" y="20525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289"/>
            <p:cNvGrpSpPr/>
            <p:nvPr/>
          </p:nvGrpSpPr>
          <p:grpSpPr>
            <a:xfrm>
              <a:off x="3204360" y="5290920"/>
              <a:ext cx="1492920" cy="229320"/>
              <a:chOff x="3204360" y="5290920"/>
              <a:chExt cx="1492920" cy="229320"/>
            </a:xfrm>
          </p:grpSpPr>
          <p:sp>
            <p:nvSpPr>
              <p:cNvPr id="120" name="Line 290"/>
              <p:cNvSpPr/>
              <p:nvPr/>
            </p:nvSpPr>
            <p:spPr>
              <a:xfrm flipH="1">
                <a:off x="3204360" y="5514840"/>
                <a:ext cx="1492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291"/>
              <p:cNvSpPr/>
              <p:nvPr/>
            </p:nvSpPr>
            <p:spPr>
              <a:xfrm>
                <a:off x="3204720" y="5290920"/>
                <a:ext cx="0" cy="229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Rounded Rectangle 7"/>
            <p:cNvSpPr/>
            <p:nvPr/>
          </p:nvSpPr>
          <p:spPr>
            <a:xfrm>
              <a:off x="4584240" y="5221080"/>
              <a:ext cx="2226240" cy="417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ction Butto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2:27:45Z</dcterms:created>
  <dc:creator>Isalgado</dc:creator>
  <dc:description>Version 1.6
03.31.03</dc:description>
  <dc:language>en-US</dc:language>
  <cp:lastModifiedBy>Tricia Murphy</cp:lastModifiedBy>
  <cp:lastPrinted>2012-11-26T15:00:14Z</cp:lastPrinted>
  <dcterms:modified xsi:type="dcterms:W3CDTF">2013-07-23T19:38:51Z</dcterms:modified>
  <cp:revision>120</cp:revision>
  <dc:subject>Courseware Resource Supplement</dc:subject>
  <dc:title>OV-ILT Template –  Content Developer Section</dc:title>
</cp:coreProperties>
</file>