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96EBBE5-EFD7-433A-B302-87D372661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CEACC40-8415-4E05-9AFB-5B08559E3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34486E4-8F85-47D2-A8E5-6D370F185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B32ACEF-0FCD-4150-AB91-50F130FF1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2433100-360D-4731-89FC-D35608074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3BFAE18-598F-4596-BCC5-57E04D3B0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581D311-FC65-4F56-B382-0F49B3785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7BCE845-82BC-47D3-BE65-F0151548B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108B6ED-CDCE-4354-9168-CA917C4DC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E033919-1802-43DF-A5FC-7882728D9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3A549AD-D215-464D-8C46-3B7466965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5F55FC4-36E9-472E-B10B-D163AFD20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4431A9E-07DC-4C2D-8EF3-4A45023CF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778E061-BFA3-4148-963D-3E3BE8CEE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4 - </a:t>
            </a:r>
            <a:fld id="{6E74D4FA-1BEC-4EB7-9C7A-04D4CF3460B0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orking with Media and Anima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udio to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Video to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ize Animations and Trans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Animation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"/>
          <p:cNvGrpSpPr/>
          <p:nvPr/>
        </p:nvGrpSpPr>
        <p:grpSpPr>
          <a:xfrm>
            <a:off x="2209680" y="2281320"/>
            <a:ext cx="4094280" cy="3294000"/>
            <a:chOff x="2209680" y="2281320"/>
            <a:chExt cx="4094280" cy="3294000"/>
          </a:xfrm>
        </p:grpSpPr>
        <p:pic>
          <p:nvPicPr>
            <p:cNvPr id="117" name="Picture 1" descr=""/>
            <p:cNvPicPr/>
            <p:nvPr/>
          </p:nvPicPr>
          <p:blipFill>
            <a:blip r:embed="rId1"/>
            <a:stretch/>
          </p:blipFill>
          <p:spPr>
            <a:xfrm>
              <a:off x="4476240" y="2281320"/>
              <a:ext cx="1827720" cy="328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AutoShape 303"/>
            <p:cNvSpPr/>
            <p:nvPr/>
          </p:nvSpPr>
          <p:spPr>
            <a:xfrm flipH="1">
              <a:off x="4167720" y="3429000"/>
              <a:ext cx="174600" cy="1218600"/>
            </a:xfrm>
            <a:custGeom>
              <a:avLst/>
              <a:gdLst>
                <a:gd name="textAreaLeft" fmla="*/ 0 w 174600"/>
                <a:gd name="textAreaRight" fmla="*/ 63000 w 174600"/>
                <a:gd name="textAreaTop" fmla="*/ 36000 h 1218600"/>
                <a:gd name="textAreaBottom" fmla="*/ 1182600 h 121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020"/>
                    <a:pt x="10800" y="2039"/>
                  </a:cubicBezTo>
                  <a:lnTo>
                    <a:pt x="10800" y="8761"/>
                  </a:lnTo>
                  <a:cubicBezTo>
                    <a:pt x="10800" y="9781"/>
                    <a:pt x="16200" y="10800"/>
                    <a:pt x="21600" y="10800"/>
                  </a:cubicBezTo>
                  <a:cubicBezTo>
                    <a:pt x="16200" y="10800"/>
                    <a:pt x="10800" y="11820"/>
                    <a:pt x="10800" y="12839"/>
                  </a:cubicBezTo>
                  <a:lnTo>
                    <a:pt x="10800" y="19561"/>
                  </a:lnTo>
                  <a:cubicBezTo>
                    <a:pt x="10800" y="20581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44"/>
            <p:cNvSpPr/>
            <p:nvPr/>
          </p:nvSpPr>
          <p:spPr>
            <a:xfrm>
              <a:off x="3605040" y="4037400"/>
              <a:ext cx="49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ounded Rectangle 5"/>
            <p:cNvSpPr/>
            <p:nvPr/>
          </p:nvSpPr>
          <p:spPr>
            <a:xfrm>
              <a:off x="2374560" y="3900600"/>
              <a:ext cx="14763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nimations Li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44"/>
            <p:cNvSpPr/>
            <p:nvPr/>
          </p:nvSpPr>
          <p:spPr>
            <a:xfrm>
              <a:off x="3669840" y="5409720"/>
              <a:ext cx="9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ounded Rectangle 7"/>
            <p:cNvSpPr/>
            <p:nvPr/>
          </p:nvSpPr>
          <p:spPr>
            <a:xfrm>
              <a:off x="2315880" y="5118120"/>
              <a:ext cx="147636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conds Drop-Down Men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03"/>
            <p:cNvSpPr/>
            <p:nvPr/>
          </p:nvSpPr>
          <p:spPr>
            <a:xfrm flipH="1" rot="5400000">
              <a:off x="5698080" y="4853520"/>
              <a:ext cx="186480" cy="609840"/>
            </a:xfrm>
            <a:custGeom>
              <a:avLst/>
              <a:gdLst>
                <a:gd name="textAreaLeft" fmla="*/ 360 w 186480"/>
                <a:gd name="textAreaRight" fmla="*/ 67680 w 186480"/>
                <a:gd name="textAreaTop" fmla="*/ 38160 h 609840"/>
                <a:gd name="textAreaBottom" fmla="*/ 5716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177"/>
                    <a:pt x="10800" y="4354"/>
                  </a:cubicBezTo>
                  <a:lnTo>
                    <a:pt x="10800" y="6446"/>
                  </a:lnTo>
                  <a:cubicBezTo>
                    <a:pt x="10800" y="8623"/>
                    <a:pt x="16200" y="10800"/>
                    <a:pt x="21600" y="10800"/>
                  </a:cubicBezTo>
                  <a:cubicBezTo>
                    <a:pt x="16200" y="10800"/>
                    <a:pt x="10800" y="12977"/>
                    <a:pt x="10800" y="15154"/>
                  </a:cubicBezTo>
                  <a:lnTo>
                    <a:pt x="10800" y="17246"/>
                  </a:lnTo>
                  <a:cubicBezTo>
                    <a:pt x="10800" y="19423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325"/>
            <p:cNvGrpSpPr/>
            <p:nvPr/>
          </p:nvGrpSpPr>
          <p:grpSpPr>
            <a:xfrm>
              <a:off x="3793680" y="4816800"/>
              <a:ext cx="2002320" cy="216000"/>
              <a:chOff x="3793680" y="4816800"/>
              <a:chExt cx="2002320" cy="216000"/>
            </a:xfrm>
          </p:grpSpPr>
          <p:sp>
            <p:nvSpPr>
              <p:cNvPr id="125" name="Line 326"/>
              <p:cNvSpPr/>
              <p:nvPr/>
            </p:nvSpPr>
            <p:spPr>
              <a:xfrm flipV="1">
                <a:off x="3793680" y="4816800"/>
                <a:ext cx="2002320" cy="3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327"/>
              <p:cNvSpPr/>
              <p:nvPr/>
            </p:nvSpPr>
            <p:spPr>
              <a:xfrm flipV="1">
                <a:off x="5796000" y="4820040"/>
                <a:ext cx="0" cy="212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Rounded Rectangle 9"/>
            <p:cNvSpPr/>
            <p:nvPr/>
          </p:nvSpPr>
          <p:spPr>
            <a:xfrm>
              <a:off x="2238120" y="4680000"/>
              <a:ext cx="158292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dvanced Timel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325"/>
            <p:cNvGrpSpPr/>
            <p:nvPr/>
          </p:nvGrpSpPr>
          <p:grpSpPr>
            <a:xfrm>
              <a:off x="3650040" y="2976840"/>
              <a:ext cx="2311920" cy="383760"/>
              <a:chOff x="3650040" y="2976840"/>
              <a:chExt cx="2311920" cy="383760"/>
            </a:xfrm>
          </p:grpSpPr>
          <p:sp>
            <p:nvSpPr>
              <p:cNvPr id="129" name="Line 326"/>
              <p:cNvSpPr/>
              <p:nvPr/>
            </p:nvSpPr>
            <p:spPr>
              <a:xfrm flipV="1">
                <a:off x="3650040" y="2976840"/>
                <a:ext cx="2311920" cy="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27"/>
              <p:cNvSpPr/>
              <p:nvPr/>
            </p:nvSpPr>
            <p:spPr>
              <a:xfrm flipV="1">
                <a:off x="5954400" y="2985120"/>
                <a:ext cx="0" cy="375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ounded Rectangle 17"/>
            <p:cNvSpPr/>
            <p:nvPr/>
          </p:nvSpPr>
          <p:spPr>
            <a:xfrm>
              <a:off x="2209680" y="2859120"/>
              <a:ext cx="1582920" cy="23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nimation Dur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ounded Rectangle 18"/>
          <p:cNvSpPr/>
          <p:nvPr/>
        </p:nvSpPr>
        <p:spPr>
          <a:xfrm>
            <a:off x="6629400" y="2622600"/>
            <a:ext cx="1582560" cy="23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order  Butt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4"/>
          <p:cNvSpPr/>
          <p:nvPr/>
        </p:nvSpPr>
        <p:spPr>
          <a:xfrm flipH="1">
            <a:off x="6248520" y="274176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20"/>
          <p:cNvSpPr/>
          <p:nvPr/>
        </p:nvSpPr>
        <p:spPr>
          <a:xfrm>
            <a:off x="2209680" y="2209680"/>
            <a:ext cx="1582920" cy="41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y All/Play From Butt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4"/>
          <p:cNvSpPr/>
          <p:nvPr/>
        </p:nvSpPr>
        <p:spPr>
          <a:xfrm>
            <a:off x="3792600" y="2416320"/>
            <a:ext cx="771480" cy="32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22"/>
          <p:cNvSpPr/>
          <p:nvPr/>
        </p:nvSpPr>
        <p:spPr>
          <a:xfrm>
            <a:off x="6629400" y="3174840"/>
            <a:ext cx="1582560" cy="4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imation Options Drop-Down Men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4"/>
          <p:cNvSpPr/>
          <p:nvPr/>
        </p:nvSpPr>
        <p:spPr>
          <a:xfrm flipH="1">
            <a:off x="6172200" y="34164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Effect Option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2470320" y="2035080"/>
            <a:ext cx="418464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Tim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577960" y="2219400"/>
            <a:ext cx="39690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es including multimedia content in presentations benefit the audience? The presen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some potential pitfalls to consider when timing animations and transitio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Audio/Video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1905120" y="2811600"/>
            <a:ext cx="4981320" cy="2065320"/>
            <a:chOff x="1905120" y="2811600"/>
            <a:chExt cx="4981320" cy="2065320"/>
          </a:xfrm>
        </p:grpSpPr>
        <p:pic>
          <p:nvPicPr>
            <p:cNvPr id="53" name="Picture 1" descr=""/>
            <p:cNvPicPr/>
            <p:nvPr/>
          </p:nvPicPr>
          <p:blipFill>
            <a:blip r:embed="rId1"/>
            <a:stretch/>
          </p:blipFill>
          <p:spPr>
            <a:xfrm>
              <a:off x="2857320" y="2811600"/>
              <a:ext cx="3924360" cy="14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Line 167"/>
            <p:cNvSpPr/>
            <p:nvPr/>
          </p:nvSpPr>
          <p:spPr>
            <a:xfrm>
              <a:off x="5131440" y="4338000"/>
              <a:ext cx="126000" cy="34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ounded Rectangle 8"/>
            <p:cNvSpPr/>
            <p:nvPr/>
          </p:nvSpPr>
          <p:spPr>
            <a:xfrm>
              <a:off x="5132520" y="4489560"/>
              <a:ext cx="1476360" cy="387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ove Back/Move Forward Butt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67"/>
            <p:cNvSpPr/>
            <p:nvPr/>
          </p:nvSpPr>
          <p:spPr>
            <a:xfrm flipV="1">
              <a:off x="6477120" y="3403080"/>
              <a:ext cx="0" cy="47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ounded Rectangle 10"/>
            <p:cNvSpPr/>
            <p:nvPr/>
          </p:nvSpPr>
          <p:spPr>
            <a:xfrm>
              <a:off x="5410080" y="3193920"/>
              <a:ext cx="1476360" cy="39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olume/Mute 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67"/>
            <p:cNvSpPr/>
            <p:nvPr/>
          </p:nvSpPr>
          <p:spPr>
            <a:xfrm>
              <a:off x="3936240" y="4261680"/>
              <a:ext cx="0" cy="49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ounded Rectangle 12"/>
            <p:cNvSpPr/>
            <p:nvPr/>
          </p:nvSpPr>
          <p:spPr>
            <a:xfrm>
              <a:off x="3502080" y="4602240"/>
              <a:ext cx="1476360" cy="274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rubb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67"/>
            <p:cNvSpPr/>
            <p:nvPr/>
          </p:nvSpPr>
          <p:spPr>
            <a:xfrm>
              <a:off x="3124080" y="4337280"/>
              <a:ext cx="0" cy="39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ounded Rectangle 14"/>
            <p:cNvSpPr/>
            <p:nvPr/>
          </p:nvSpPr>
          <p:spPr>
            <a:xfrm>
              <a:off x="1905120" y="4602240"/>
              <a:ext cx="1476360" cy="274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y 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303"/>
            <p:cNvSpPr/>
            <p:nvPr/>
          </p:nvSpPr>
          <p:spPr>
            <a:xfrm flipH="1" rot="16200000">
              <a:off x="5020560" y="3933000"/>
              <a:ext cx="157680" cy="533160"/>
            </a:xfrm>
            <a:custGeom>
              <a:avLst/>
              <a:gdLst>
                <a:gd name="textAreaLeft" fmla="*/ 0 w 157680"/>
                <a:gd name="textAreaRight" fmla="*/ 56880 w 157680"/>
                <a:gd name="textAreaTop" fmla="*/ 32400 h 533160"/>
                <a:gd name="textAreaBottom" fmla="*/ 5007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106"/>
                    <a:pt x="10800" y="4212"/>
                  </a:cubicBezTo>
                  <a:lnTo>
                    <a:pt x="10800" y="6588"/>
                  </a:lnTo>
                  <a:cubicBezTo>
                    <a:pt x="10800" y="8694"/>
                    <a:pt x="16200" y="10800"/>
                    <a:pt x="21600" y="10800"/>
                  </a:cubicBezTo>
                  <a:cubicBezTo>
                    <a:pt x="16200" y="10800"/>
                    <a:pt x="10800" y="12906"/>
                    <a:pt x="10800" y="15012"/>
                  </a:cubicBezTo>
                  <a:lnTo>
                    <a:pt x="10800" y="17388"/>
                  </a:lnTo>
                  <a:cubicBezTo>
                    <a:pt x="10800" y="19494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ook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"/>
          <p:cNvGrpSpPr/>
          <p:nvPr/>
        </p:nvGrpSpPr>
        <p:grpSpPr>
          <a:xfrm>
            <a:off x="3124080" y="3027240"/>
            <a:ext cx="2828880" cy="1773360"/>
            <a:chOff x="3124080" y="3027240"/>
            <a:chExt cx="2828880" cy="1773360"/>
          </a:xfrm>
        </p:grpSpPr>
        <p:pic>
          <p:nvPicPr>
            <p:cNvPr id="65" name="Picture 3" descr=""/>
            <p:cNvPicPr/>
            <p:nvPr/>
          </p:nvPicPr>
          <p:blipFill>
            <a:blip r:embed="rId1"/>
            <a:stretch/>
          </p:blipFill>
          <p:spPr>
            <a:xfrm>
              <a:off x="3124080" y="3027240"/>
              <a:ext cx="282888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Line 167"/>
            <p:cNvSpPr/>
            <p:nvPr/>
          </p:nvSpPr>
          <p:spPr>
            <a:xfrm>
              <a:off x="4051440" y="4157280"/>
              <a:ext cx="0" cy="37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ounded Rectangle 5"/>
            <p:cNvSpPr/>
            <p:nvPr/>
          </p:nvSpPr>
          <p:spPr>
            <a:xfrm>
              <a:off x="3578040" y="4381560"/>
              <a:ext cx="182880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ookma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AUDIO TOOLS Contextua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123840" y="3070080"/>
            <a:ext cx="874404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LAYBACK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96840" y="3048120"/>
            <a:ext cx="87580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Trim Audio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"/>
          <p:cNvGrpSpPr/>
          <p:nvPr/>
        </p:nvGrpSpPr>
        <p:grpSpPr>
          <a:xfrm>
            <a:off x="1706400" y="1892160"/>
            <a:ext cx="5685120" cy="3981600"/>
            <a:chOff x="1706400" y="1892160"/>
            <a:chExt cx="5685120" cy="3981600"/>
          </a:xfrm>
        </p:grpSpPr>
        <p:pic>
          <p:nvPicPr>
            <p:cNvPr id="74" name="Picture 1" descr=""/>
            <p:cNvPicPr/>
            <p:nvPr/>
          </p:nvPicPr>
          <p:blipFill>
            <a:blip r:embed="rId1"/>
            <a:stretch/>
          </p:blipFill>
          <p:spPr>
            <a:xfrm>
              <a:off x="2558880" y="2996280"/>
              <a:ext cx="4216680" cy="177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Rounded Rectangle 4"/>
            <p:cNvSpPr/>
            <p:nvPr/>
          </p:nvSpPr>
          <p:spPr>
            <a:xfrm>
              <a:off x="1706400" y="2366640"/>
              <a:ext cx="14763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art Poi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ounded Rectangle 6"/>
            <p:cNvSpPr/>
            <p:nvPr/>
          </p:nvSpPr>
          <p:spPr>
            <a:xfrm>
              <a:off x="5915160" y="2366640"/>
              <a:ext cx="14763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nd Poi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ounded Rectangle 8"/>
            <p:cNvSpPr/>
            <p:nvPr/>
          </p:nvSpPr>
          <p:spPr>
            <a:xfrm>
              <a:off x="1706400" y="4921200"/>
              <a:ext cx="1476360" cy="48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art Time Spin Box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ounded Rectangle 12"/>
            <p:cNvSpPr/>
            <p:nvPr/>
          </p:nvSpPr>
          <p:spPr>
            <a:xfrm>
              <a:off x="5915160" y="4992840"/>
              <a:ext cx="1476360" cy="41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nd Time Spin Box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9"/>
            <p:cNvSpPr/>
            <p:nvPr/>
          </p:nvSpPr>
          <p:spPr>
            <a:xfrm>
              <a:off x="4672080" y="4343400"/>
              <a:ext cx="0" cy="9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ounded Rectangle 14"/>
            <p:cNvSpPr/>
            <p:nvPr/>
          </p:nvSpPr>
          <p:spPr>
            <a:xfrm>
              <a:off x="2363400" y="5599440"/>
              <a:ext cx="14763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evious Fra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ounded Rectangle 16"/>
            <p:cNvSpPr/>
            <p:nvPr/>
          </p:nvSpPr>
          <p:spPr>
            <a:xfrm>
              <a:off x="3962160" y="5127840"/>
              <a:ext cx="1219320" cy="27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331"/>
            <p:cNvGrpSpPr/>
            <p:nvPr/>
          </p:nvGrpSpPr>
          <p:grpSpPr>
            <a:xfrm>
              <a:off x="4170600" y="2627640"/>
              <a:ext cx="708480" cy="953280"/>
              <a:chOff x="4170600" y="2627640"/>
              <a:chExt cx="708480" cy="953280"/>
            </a:xfrm>
          </p:grpSpPr>
          <p:sp>
            <p:nvSpPr>
              <p:cNvPr id="83" name="Line 332"/>
              <p:cNvSpPr/>
              <p:nvPr/>
            </p:nvSpPr>
            <p:spPr>
              <a:xfrm>
                <a:off x="4186800" y="2627640"/>
                <a:ext cx="0" cy="9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333"/>
              <p:cNvSpPr/>
              <p:nvPr/>
            </p:nvSpPr>
            <p:spPr>
              <a:xfrm flipH="1">
                <a:off x="4170600" y="3580920"/>
                <a:ext cx="70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ounded Rectangle 18"/>
            <p:cNvSpPr/>
            <p:nvPr/>
          </p:nvSpPr>
          <p:spPr>
            <a:xfrm>
              <a:off x="5170680" y="5594400"/>
              <a:ext cx="14763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xt Fra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ounded Rectangle 20"/>
            <p:cNvSpPr/>
            <p:nvPr/>
          </p:nvSpPr>
          <p:spPr>
            <a:xfrm>
              <a:off x="3639960" y="2366640"/>
              <a:ext cx="1693800" cy="376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urrent Playback Ti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39"/>
            <p:cNvSpPr/>
            <p:nvPr/>
          </p:nvSpPr>
          <p:spPr>
            <a:xfrm flipV="1">
              <a:off x="3429000" y="2030040"/>
              <a:ext cx="0" cy="155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ounded Rectangle 22"/>
            <p:cNvSpPr/>
            <p:nvPr/>
          </p:nvSpPr>
          <p:spPr>
            <a:xfrm>
              <a:off x="2653920" y="1892160"/>
              <a:ext cx="170172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udio Clip Timel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331"/>
            <p:cNvGrpSpPr/>
            <p:nvPr/>
          </p:nvGrpSpPr>
          <p:grpSpPr>
            <a:xfrm>
              <a:off x="2209320" y="2642040"/>
              <a:ext cx="456840" cy="1091520"/>
              <a:chOff x="2209320" y="2642040"/>
              <a:chExt cx="456840" cy="1091520"/>
            </a:xfrm>
          </p:grpSpPr>
          <p:sp>
            <p:nvSpPr>
              <p:cNvPr id="90" name="Line 332"/>
              <p:cNvSpPr/>
              <p:nvPr/>
            </p:nvSpPr>
            <p:spPr>
              <a:xfrm>
                <a:off x="2220120" y="2642040"/>
                <a:ext cx="0" cy="109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333"/>
              <p:cNvSpPr/>
              <p:nvPr/>
            </p:nvSpPr>
            <p:spPr>
              <a:xfrm flipH="1">
                <a:off x="2209320" y="3733560"/>
                <a:ext cx="456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334"/>
            <p:cNvGrpSpPr/>
            <p:nvPr/>
          </p:nvGrpSpPr>
          <p:grpSpPr>
            <a:xfrm>
              <a:off x="6653520" y="2642040"/>
              <a:ext cx="432720" cy="1093680"/>
              <a:chOff x="6653520" y="2642040"/>
              <a:chExt cx="432720" cy="1093680"/>
            </a:xfrm>
          </p:grpSpPr>
          <p:sp>
            <p:nvSpPr>
              <p:cNvPr id="93" name="Line 335"/>
              <p:cNvSpPr/>
              <p:nvPr/>
            </p:nvSpPr>
            <p:spPr>
              <a:xfrm>
                <a:off x="7076520" y="2642040"/>
                <a:ext cx="0" cy="1093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336"/>
              <p:cNvSpPr/>
              <p:nvPr/>
            </p:nvSpPr>
            <p:spPr>
              <a:xfrm>
                <a:off x="6653520" y="3735720"/>
                <a:ext cx="432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334"/>
            <p:cNvGrpSpPr/>
            <p:nvPr/>
          </p:nvGrpSpPr>
          <p:grpSpPr>
            <a:xfrm>
              <a:off x="2211120" y="4033080"/>
              <a:ext cx="531360" cy="885600"/>
              <a:chOff x="2211120" y="4033080"/>
              <a:chExt cx="531360" cy="885600"/>
            </a:xfrm>
          </p:grpSpPr>
          <p:sp>
            <p:nvSpPr>
              <p:cNvPr id="96" name="Line 335"/>
              <p:cNvSpPr/>
              <p:nvPr/>
            </p:nvSpPr>
            <p:spPr>
              <a:xfrm flipV="1">
                <a:off x="2223000" y="4033080"/>
                <a:ext cx="0" cy="88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336"/>
              <p:cNvSpPr/>
              <p:nvPr/>
            </p:nvSpPr>
            <p:spPr>
              <a:xfrm flipH="1">
                <a:off x="2211120" y="4033080"/>
                <a:ext cx="531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331"/>
            <p:cNvGrpSpPr/>
            <p:nvPr/>
          </p:nvGrpSpPr>
          <p:grpSpPr>
            <a:xfrm>
              <a:off x="6630480" y="4035240"/>
              <a:ext cx="448920" cy="1029600"/>
              <a:chOff x="6630480" y="4035240"/>
              <a:chExt cx="448920" cy="1029600"/>
            </a:xfrm>
          </p:grpSpPr>
          <p:sp>
            <p:nvSpPr>
              <p:cNvPr id="99" name="Line 332"/>
              <p:cNvSpPr/>
              <p:nvPr/>
            </p:nvSpPr>
            <p:spPr>
              <a:xfrm flipV="1">
                <a:off x="7068960" y="4035240"/>
                <a:ext cx="0" cy="1029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33"/>
              <p:cNvSpPr/>
              <p:nvPr/>
            </p:nvSpPr>
            <p:spPr>
              <a:xfrm>
                <a:off x="6630480" y="4035240"/>
                <a:ext cx="448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334"/>
            <p:cNvGrpSpPr/>
            <p:nvPr/>
          </p:nvGrpSpPr>
          <p:grpSpPr>
            <a:xfrm>
              <a:off x="3659040" y="4114440"/>
              <a:ext cx="455040" cy="1478520"/>
              <a:chOff x="3659040" y="4114440"/>
              <a:chExt cx="455040" cy="1478520"/>
            </a:xfrm>
          </p:grpSpPr>
          <p:sp>
            <p:nvSpPr>
              <p:cNvPr id="102" name="Line 335"/>
              <p:cNvSpPr/>
              <p:nvPr/>
            </p:nvSpPr>
            <p:spPr>
              <a:xfrm flipV="1">
                <a:off x="3669480" y="4114440"/>
                <a:ext cx="0" cy="147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36"/>
              <p:cNvSpPr/>
              <p:nvPr/>
            </p:nvSpPr>
            <p:spPr>
              <a:xfrm flipH="1">
                <a:off x="3659040" y="4114800"/>
                <a:ext cx="455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331"/>
            <p:cNvGrpSpPr/>
            <p:nvPr/>
          </p:nvGrpSpPr>
          <p:grpSpPr>
            <a:xfrm>
              <a:off x="5257800" y="4114440"/>
              <a:ext cx="380880" cy="1526040"/>
              <a:chOff x="5257800" y="4114440"/>
              <a:chExt cx="380880" cy="1526040"/>
            </a:xfrm>
          </p:grpSpPr>
          <p:sp>
            <p:nvSpPr>
              <p:cNvPr id="105" name="Line 332"/>
              <p:cNvSpPr/>
              <p:nvPr/>
            </p:nvSpPr>
            <p:spPr>
              <a:xfrm flipV="1">
                <a:off x="5630040" y="4114440"/>
                <a:ext cx="0" cy="152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333"/>
              <p:cNvSpPr/>
              <p:nvPr/>
            </p:nvSpPr>
            <p:spPr>
              <a:xfrm>
                <a:off x="5257800" y="411480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VIDEO TOOLS Contextua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52280" y="2790720"/>
            <a:ext cx="88693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oster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17760" y="254016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mbed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5"/>
          <p:cNvGrpSpPr/>
          <p:nvPr/>
        </p:nvGrpSpPr>
        <p:grpSpPr>
          <a:xfrm>
            <a:off x="2266920" y="3200400"/>
            <a:ext cx="4610160" cy="1227240"/>
            <a:chOff x="2266920" y="3200400"/>
            <a:chExt cx="4610160" cy="1227240"/>
          </a:xfrm>
        </p:grpSpPr>
        <p:pic>
          <p:nvPicPr>
            <p:cNvPr id="113" name="Picture 2" descr=""/>
            <p:cNvPicPr/>
            <p:nvPr/>
          </p:nvPicPr>
          <p:blipFill>
            <a:blip r:embed="rId1"/>
            <a:stretch/>
          </p:blipFill>
          <p:spPr>
            <a:xfrm>
              <a:off x="2266920" y="3200400"/>
              <a:ext cx="46101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Rounded Rectangle 4"/>
            <p:cNvSpPr/>
            <p:nvPr/>
          </p:nvSpPr>
          <p:spPr>
            <a:xfrm>
              <a:off x="3047760" y="4152960"/>
              <a:ext cx="3048120" cy="274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n Embed Code from YouTub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7-23T19:52:50Z</dcterms:modified>
  <cp:revision>121</cp:revision>
  <dc:subject>Courseware Resource Supplement</dc:subject>
  <dc:title>OV-ILT Template –  Content Developer Section</dc:title>
</cp:coreProperties>
</file>