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05F4E93-6FAC-400D-9C66-B7DA0426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2AC2F7-B3A1-4ECE-8C4B-CB5A5829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8B3609-D237-4466-9163-8C7CAD7E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46F6E9-C17A-4281-B91D-DEEE7EB3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96579B-8E39-4BA9-9489-B3AFC661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CBD41E-B774-43EF-A7B6-E065D755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35857F-6E98-4209-BB6A-52E25B4B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3A2C73-C23A-434E-8E2A-7F311CDA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BD9B7B-A66F-4D91-B597-68166206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AFE80E-0A1A-4090-838F-776EE564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6D27EF-8818-4764-8044-236C8431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6D0BCB-EC77-4C40-847E-CABBF838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39C26E-128D-40E1-B90E-DBE77B61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3D8EAD-D8FB-4642-ADAD-D868C855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7 - </a:t>
            </a:r>
            <a:fld id="{6DBA1F68-70AE-45DC-9177-B350E65FD33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Video or a 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ng and Distributing a Present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523880" y="2743200"/>
          <a:ext cx="5867640" cy="1981080"/>
        </p:xfrm>
        <a:graphic>
          <a:graphicData uri="http://schemas.openxmlformats.org/drawingml/2006/table">
            <a:tbl>
              <a:tblPr/>
              <a:tblGrid>
                <a:gridCol w="2210040"/>
                <a:gridCol w="36576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al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’s 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asic transitions displa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 does not broadcast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is not displayed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 too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 tools are not displayed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roadcas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reate a Video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333440" y="1971720"/>
            <a:ext cx="6410520" cy="3895560"/>
          </a:xfrm>
          <a:prstGeom prst="rect">
            <a:avLst/>
          </a:prstGeom>
          <a:ln w="15840">
            <a:solidFill>
              <a:srgbClr val="bfbfbf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ckage for CD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762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ikely are you to use PowerPoint to present confidential information now that you are aware of the security features avail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think the ability to broadcast presentations over the web will lead to a decrease in the number of live presentations? Do you prefer a live event over attending remotel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29040" y="3881520"/>
            <a:ext cx="333396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09800" y="2438280"/>
            <a:ext cx="33336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4"/>
          <p:cNvSpPr/>
          <p:nvPr/>
        </p:nvSpPr>
        <p:spPr>
          <a:xfrm>
            <a:off x="5710320" y="5303880"/>
            <a:ext cx="1681200" cy="382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ssword Requi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Modify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1819440" y="3881520"/>
            <a:ext cx="1680840" cy="40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ssword Requi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Open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Mark as Final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7000" y="1384200"/>
            <a:ext cx="86184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81040" y="1427040"/>
            <a:ext cx="7315200" cy="412920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le 4"/>
          <p:cNvSpPr/>
          <p:nvPr/>
        </p:nvSpPr>
        <p:spPr>
          <a:xfrm>
            <a:off x="6783480" y="5835600"/>
            <a:ext cx="190332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atures P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7"/>
          <p:cNvSpPr/>
          <p:nvPr/>
        </p:nvSpPr>
        <p:spPr>
          <a:xfrm>
            <a:off x="2197080" y="5559480"/>
            <a:ext cx="0" cy="544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6"/>
          <p:cNvSpPr/>
          <p:nvPr/>
        </p:nvSpPr>
        <p:spPr>
          <a:xfrm>
            <a:off x="1809720" y="5854680"/>
            <a:ext cx="2168640" cy="35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gital Signature I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2"/>
          <p:cNvSpPr/>
          <p:nvPr/>
        </p:nvSpPr>
        <p:spPr>
          <a:xfrm>
            <a:off x="7900920" y="2109960"/>
            <a:ext cx="295200" cy="3236760"/>
          </a:xfrm>
          <a:custGeom>
            <a:avLst/>
            <a:gdLst>
              <a:gd name="textAreaLeft" fmla="*/ 0 w 295200"/>
              <a:gd name="textAreaRight" fmla="*/ 106560 w 295200"/>
              <a:gd name="textAreaTop" fmla="*/ 60480 h 3236760"/>
              <a:gd name="textAreaBottom" fmla="*/ 3176280 h 32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8"/>
                  <a:pt x="10800" y="1296"/>
                </a:cubicBezTo>
                <a:lnTo>
                  <a:pt x="10800" y="9504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8"/>
                  <a:pt x="10800" y="12096"/>
                </a:cubicBezTo>
                <a:lnTo>
                  <a:pt x="10800" y="20304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8"/>
          <p:cNvGrpSpPr/>
          <p:nvPr/>
        </p:nvGrpSpPr>
        <p:grpSpPr>
          <a:xfrm>
            <a:off x="8226360" y="3673080"/>
            <a:ext cx="201600" cy="2197080"/>
            <a:chOff x="8226360" y="3673080"/>
            <a:chExt cx="201600" cy="2197080"/>
          </a:xfrm>
        </p:grpSpPr>
        <p:sp>
          <p:nvSpPr>
            <p:cNvPr id="65" name="Line 329"/>
            <p:cNvSpPr/>
            <p:nvPr/>
          </p:nvSpPr>
          <p:spPr>
            <a:xfrm flipV="1">
              <a:off x="8421120" y="3673080"/>
              <a:ext cx="0" cy="21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30"/>
            <p:cNvSpPr/>
            <p:nvPr/>
          </p:nvSpPr>
          <p:spPr>
            <a:xfrm>
              <a:off x="8226360" y="373464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23880" y="3422520"/>
            <a:ext cx="6029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rust Cente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42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ocument Inspecto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1504800"/>
            <a:ext cx="5238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 Onlin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"/>
          <p:cNvGrpSpPr/>
          <p:nvPr/>
        </p:nvGrpSpPr>
        <p:grpSpPr>
          <a:xfrm>
            <a:off x="1155600" y="1187280"/>
            <a:ext cx="6845400" cy="5213520"/>
            <a:chOff x="1155600" y="1187280"/>
            <a:chExt cx="6845400" cy="5213520"/>
          </a:xfrm>
        </p:grpSpPr>
        <p:pic>
          <p:nvPicPr>
            <p:cNvPr id="75" name="Picture 2" descr=""/>
            <p:cNvPicPr/>
            <p:nvPr/>
          </p:nvPicPr>
          <p:blipFill>
            <a:blip r:embed="rId1"/>
            <a:stretch/>
          </p:blipFill>
          <p:spPr>
            <a:xfrm>
              <a:off x="1155600" y="1187280"/>
              <a:ext cx="68454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ounded Rectangle 3"/>
            <p:cNvSpPr/>
            <p:nvPr/>
          </p:nvSpPr>
          <p:spPr>
            <a:xfrm>
              <a:off x="3698640" y="5988240"/>
              <a:ext cx="1758960" cy="41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ew of an On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 Onlin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438280" y="2182680"/>
            <a:ext cx="42865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48:45Z</dcterms:modified>
  <cp:revision>110</cp:revision>
  <dc:subject>Courseware Resource Supplement</dc:subject>
  <dc:title>OV-ILT Template –  Content Developer Section</dc:title>
</cp:coreProperties>
</file>