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DDDA095-0F80-485A-B5A1-4C27CC1C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007D66-ADFB-47FD-8332-C86F785B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ing the PowerPoin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ing Design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SmartArt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with Media and An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ng on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ing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ng and Distributing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im Barnosky</cp:lastModifiedBy>
  <dcterms:modified xsi:type="dcterms:W3CDTF">2012-11-20T13:47:23Z</dcterms:modified>
  <cp:revision>80</cp:revision>
  <dc:subject>Courseware Resource Supplement</dc:subject>
  <dc:title>OV-ILT Template –  Content Developer Section</dc:title>
</cp:coreProperties>
</file>