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9A94C2-04B7-48EE-B2AE-D39E05F62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321F14B-22D5-4039-B99F-1D4F75E78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5EB285-F933-4FBC-835D-A823B9964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977FC3C-F83F-4EC9-A042-483E8102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BB48F98-3A5B-4D4C-82DE-BC5030C69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7930F17-5B11-4D38-B50B-740AE1328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B3F580-A40E-4261-BE6F-A1E71AB1C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40189D5-3627-403B-9EC5-9793F2D5F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6 - </a:t>
            </a:r>
            <a:fld id="{A322A563-ED8C-426C-A108-2C44ACE34872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reparing a Publication for Sharing and Print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ve a Publ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Design Che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iew and Print a 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 a 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DF Publish Op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765840" cy="2082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066680" y="2184480"/>
            <a:ext cx="3270240" cy="438948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6"/>
          <p:cNvSpPr/>
          <p:nvPr/>
        </p:nvSpPr>
        <p:spPr>
          <a:xfrm>
            <a:off x="4495680" y="3886200"/>
            <a:ext cx="172404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DF Publish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228600" y="1195560"/>
            <a:ext cx="6767640" cy="3479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eb File Output (HTML)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2133720" y="3324240"/>
            <a:ext cx="6324480" cy="2903400"/>
          </a:xfrm>
          <a:prstGeom prst="rect">
            <a:avLst/>
          </a:prstGeom>
          <a:ln w="0">
            <a:noFill/>
          </a:ln>
        </p:spPr>
      </p:pic>
      <p:sp>
        <p:nvSpPr>
          <p:cNvPr id="58" name="Line 316"/>
          <p:cNvSpPr/>
          <p:nvPr/>
        </p:nvSpPr>
        <p:spPr>
          <a:xfrm>
            <a:off x="3276720" y="2937600"/>
            <a:ext cx="531720" cy="44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5315040" y="3886200"/>
            <a:ext cx="1800000" cy="6094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 publication exported as HTML viewed in a browser wind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ack and Go Featur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95000" cy="4276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1"/>
          <p:cNvSpPr/>
          <p:nvPr/>
        </p:nvSpPr>
        <p:spPr>
          <a:xfrm>
            <a:off x="1447920" y="4114800"/>
            <a:ext cx="2514600" cy="176220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 flipV="1">
            <a:off x="7496280" y="1600200"/>
            <a:ext cx="457200" cy="114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Design Checker Task Pan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1962000" cy="421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504828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Rounded Rectangle 4"/>
          <p:cNvSpPr/>
          <p:nvPr/>
        </p:nvSpPr>
        <p:spPr>
          <a:xfrm>
            <a:off x="2819520" y="4419720"/>
            <a:ext cx="1828800" cy="3808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Design Checker Task Pa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00"/>
          <p:cNvSpPr/>
          <p:nvPr/>
        </p:nvSpPr>
        <p:spPr>
          <a:xfrm>
            <a:off x="4648320" y="45720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1676520" y="1671480"/>
            <a:ext cx="1828800" cy="53820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Design Checker command can be found on the FILE ta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6"/>
          <p:cNvSpPr/>
          <p:nvPr/>
        </p:nvSpPr>
        <p:spPr>
          <a:xfrm flipH="1">
            <a:off x="1542960" y="2209680"/>
            <a:ext cx="362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ublisher Print Op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72" name="Group 1"/>
          <p:cNvGrpSpPr/>
          <p:nvPr/>
        </p:nvGrpSpPr>
        <p:grpSpPr>
          <a:xfrm>
            <a:off x="409680" y="1219320"/>
            <a:ext cx="8412120" cy="4759200"/>
            <a:chOff x="409680" y="1219320"/>
            <a:chExt cx="8412120" cy="4759200"/>
          </a:xfrm>
        </p:grpSpPr>
        <p:pic>
          <p:nvPicPr>
            <p:cNvPr id="73" name="Picture 1" descr=""/>
            <p:cNvPicPr/>
            <p:nvPr/>
          </p:nvPicPr>
          <p:blipFill>
            <a:blip r:embed="rId1"/>
            <a:stretch/>
          </p:blipFill>
          <p:spPr>
            <a:xfrm>
              <a:off x="409680" y="1219320"/>
              <a:ext cx="8412120" cy="47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3"/>
            <p:cNvSpPr/>
            <p:nvPr/>
          </p:nvSpPr>
          <p:spPr>
            <a:xfrm flipV="1">
              <a:off x="5309280" y="1270440"/>
              <a:ext cx="457200" cy="11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mail Preview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80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kyDriv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961920" y="1085760"/>
            <a:ext cx="72201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es sharing the files for active projects work in your organization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will cloud storage options, including SkyDrive, change how you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12T20:46:38Z</dcterms:modified>
  <cp:revision>100</cp:revision>
  <dc:subject>Courseware Resource Supplement</dc:subject>
  <dc:title>OV-ILT Template –  Content Developer Section</dc:title>
</cp:coreProperties>
</file>