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C931B5F-AABF-45AE-80F1-433E22BD8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1F1247E-62B0-40CD-BD42-45BB159B6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8E1DC4D-9A6C-4A79-AB79-2E03EEE1D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9C57949-9AC1-4347-B0BE-93869A3A3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AA6636E-9C3F-457A-8751-67AB5980C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2A68B39-7E16-4702-8294-D2B8B8970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89EF3EA-A700-4862-ACD0-D198B991E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AF0F30E-1F29-4F6E-849A-5E0634380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F27B248-E815-44B8-820F-4F370E41F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89C8470-46D4-4D06-A8D8-084CA6951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5 - </a:t>
            </a:r>
            <a:fld id="{630CA151-480D-4038-BE34-2CFCFAC31534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472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dding and Formatting Graphic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n a Public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Graphical Objects to a Pub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ipulate the Appearance of Pictu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 PNG Image Imported in a Public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762280" y="1209600"/>
            <a:ext cx="36194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ordArt Op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2438280" y="1376280"/>
            <a:ext cx="4789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lip Ar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641520" y="1600200"/>
            <a:ext cx="663732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Rounded Rectangle 3"/>
          <p:cNvSpPr/>
          <p:nvPr/>
        </p:nvSpPr>
        <p:spPr>
          <a:xfrm>
            <a:off x="6172200" y="274320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arch Office.com Clip Art for thousands of Clip Art objec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15"/>
          <p:cNvSpPr/>
          <p:nvPr/>
        </p:nvSpPr>
        <p:spPr>
          <a:xfrm flipH="1" flipV="1">
            <a:off x="5646600" y="2617920"/>
            <a:ext cx="525600" cy="250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hap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3200400" y="1071720"/>
            <a:ext cx="2941560" cy="55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Graphics Manager Task Pan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048120" y="1071720"/>
            <a:ext cx="3335040" cy="55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ICTURE TOOLS FORMAT Contextual Tab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64" name="Group 2"/>
          <p:cNvGrpSpPr/>
          <p:nvPr/>
        </p:nvGrpSpPr>
        <p:grpSpPr>
          <a:xfrm>
            <a:off x="212760" y="2859120"/>
            <a:ext cx="8778960" cy="1095480"/>
            <a:chOff x="212760" y="2859120"/>
            <a:chExt cx="8778960" cy="1095480"/>
          </a:xfrm>
        </p:grpSpPr>
        <p:pic>
          <p:nvPicPr>
            <p:cNvPr id="65" name="Picture 1" descr=""/>
            <p:cNvPicPr/>
            <p:nvPr/>
          </p:nvPicPr>
          <p:blipFill>
            <a:blip r:embed="rId1"/>
            <a:stretch/>
          </p:blipFill>
          <p:spPr>
            <a:xfrm>
              <a:off x="212760" y="2859120"/>
              <a:ext cx="8778960" cy="10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1"/>
            <p:cNvSpPr/>
            <p:nvPr/>
          </p:nvSpPr>
          <p:spPr>
            <a:xfrm>
              <a:off x="3962520" y="2915280"/>
              <a:ext cx="21348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icture Style Op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822240" y="1371600"/>
            <a:ext cx="3140280" cy="4389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410080" y="1525680"/>
            <a:ext cx="2286000" cy="40813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1"/>
          <p:cNvSpPr/>
          <p:nvPr/>
        </p:nvSpPr>
        <p:spPr>
          <a:xfrm>
            <a:off x="3124080" y="3733920"/>
            <a:ext cx="609840" cy="380880"/>
          </a:xfrm>
          <a:prstGeom prst="rect">
            <a:avLst/>
          </a:pr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6"/>
          <p:cNvSpPr/>
          <p:nvPr/>
        </p:nvSpPr>
        <p:spPr>
          <a:xfrm>
            <a:off x="2666880" y="41911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 picture with a “Reflected Perspective Right” style applied to 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15"/>
          <p:cNvSpPr/>
          <p:nvPr/>
        </p:nvSpPr>
        <p:spPr>
          <a:xfrm>
            <a:off x="4572000" y="44956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 some of your favorite magazines or newspapers use graphics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es a publication’s design determine how images are us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7-12T20:43:00Z</dcterms:modified>
  <cp:revision>98</cp:revision>
  <dc:subject>Courseware Resource Supplement</dc:subject>
  <dc:title>OV-ILT Template –  Content Developer Section</dc:title>
</cp:coreProperties>
</file>