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9BF863-E7E2-4048-B3CF-5878112EC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5D05427-C719-43A3-80BE-EF7749FC8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6C58B1-24A6-42B4-99B7-FE2B587DE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8B1B51-E42C-4789-BD1F-47E7567C4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ED713C-9653-43C1-9940-CDB18E045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5AB8A21-2B2D-41A9-A4CA-D2E8467F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71F639-C52E-4A03-93D2-6AAF17B47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8C0F06-D33B-4E21-B9BF-B3F3B2850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F752D78-66C6-4B4F-A295-782580230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B233180-8506-4758-AAA5-393D74212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A3964C-5852-44B5-8F25-77D5B3707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E80D70B-FBB4-4A06-9702-361898974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2 - </a:t>
            </a:r>
            <a:fld id="{1304550C-239F-4A07-AD0C-F635B7C7BE66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051"/>
          <p:cNvSpPr/>
          <p:nvPr/>
        </p:nvSpPr>
        <p:spPr>
          <a:xfrm>
            <a:off x="304920" y="1066680"/>
            <a:ext cx="74404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Text to a 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e Text Boxes and Picture Placeholders in a Lay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the Display of Content in Text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 Building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274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dding Content to a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aster Pag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828800" y="1474920"/>
            <a:ext cx="3619440" cy="2036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rcRect l="0" t="14726" r="0" b="0"/>
          <a:stretch/>
        </p:blipFill>
        <p:spPr>
          <a:xfrm>
            <a:off x="4572000" y="3809880"/>
            <a:ext cx="3067200" cy="132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1357200" y="3809880"/>
            <a:ext cx="2514600" cy="1486080"/>
          </a:xfrm>
          <a:prstGeom prst="rect">
            <a:avLst/>
          </a:prstGeom>
          <a:ln w="0">
            <a:noFill/>
          </a:ln>
        </p:spPr>
      </p:pic>
      <p:sp>
        <p:nvSpPr>
          <p:cNvPr id="110" name="Rounded Rectangle 6"/>
          <p:cNvSpPr/>
          <p:nvPr/>
        </p:nvSpPr>
        <p:spPr>
          <a:xfrm>
            <a:off x="4572000" y="190512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ster P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13"/>
          <p:cNvSpPr/>
          <p:nvPr/>
        </p:nvSpPr>
        <p:spPr>
          <a:xfrm flipH="1">
            <a:off x="4073040" y="2057400"/>
            <a:ext cx="49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13"/>
          <p:cNvSpPr/>
          <p:nvPr/>
        </p:nvSpPr>
        <p:spPr>
          <a:xfrm flipH="1">
            <a:off x="2361960" y="2179080"/>
            <a:ext cx="228600" cy="199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13"/>
          <p:cNvSpPr/>
          <p:nvPr/>
        </p:nvSpPr>
        <p:spPr>
          <a:xfrm>
            <a:off x="3352680" y="2179080"/>
            <a:ext cx="1905120" cy="17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Building Block Library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you think these design tools will help you make professional publicat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can creating professional publications improve your busin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Publisher Text Box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97120" y="1752480"/>
            <a:ext cx="5916600" cy="4023000"/>
          </a:xfrm>
          <a:prstGeom prst="rect">
            <a:avLst/>
          </a:prstGeom>
          <a:ln w="0">
            <a:noFill/>
          </a:ln>
        </p:spPr>
      </p:pic>
      <p:sp>
        <p:nvSpPr>
          <p:cNvPr id="53" name="Rounded Rectangle 15"/>
          <p:cNvSpPr/>
          <p:nvPr/>
        </p:nvSpPr>
        <p:spPr>
          <a:xfrm>
            <a:off x="2514600" y="2743200"/>
            <a:ext cx="2000160" cy="8827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ach block of text lives within a container called a text bo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uler Guid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42960" y="1371600"/>
            <a:ext cx="785808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Rounded Rectangle 9"/>
          <p:cNvSpPr/>
          <p:nvPr/>
        </p:nvSpPr>
        <p:spPr>
          <a:xfrm>
            <a:off x="3200400" y="4815000"/>
            <a:ext cx="17240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rtical Ruler Gu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13"/>
          <p:cNvSpPr/>
          <p:nvPr/>
        </p:nvSpPr>
        <p:spPr>
          <a:xfrm flipH="1">
            <a:off x="2819520" y="4952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11"/>
          <p:cNvSpPr/>
          <p:nvPr/>
        </p:nvSpPr>
        <p:spPr>
          <a:xfrm>
            <a:off x="4495680" y="3436920"/>
            <a:ext cx="17240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rizontal Ruler Gu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7"/>
          <p:cNvSpPr/>
          <p:nvPr/>
        </p:nvSpPr>
        <p:spPr>
          <a:xfrm>
            <a:off x="5334120" y="3124080"/>
            <a:ext cx="0" cy="31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13"/>
          <p:cNvSpPr/>
          <p:nvPr/>
        </p:nvSpPr>
        <p:spPr>
          <a:xfrm>
            <a:off x="1293840" y="2133720"/>
            <a:ext cx="17240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ul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13"/>
          <p:cNvSpPr/>
          <p:nvPr/>
        </p:nvSpPr>
        <p:spPr>
          <a:xfrm flipH="1">
            <a:off x="914400" y="2286000"/>
            <a:ext cx="379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14"/>
          <p:cNvSpPr/>
          <p:nvPr/>
        </p:nvSpPr>
        <p:spPr>
          <a:xfrm flipV="1">
            <a:off x="2057400" y="1634760"/>
            <a:ext cx="0" cy="49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6"/>
          <p:cNvSpPr/>
          <p:nvPr/>
        </p:nvSpPr>
        <p:spPr>
          <a:xfrm>
            <a:off x="5715000" y="1892160"/>
            <a:ext cx="2000160" cy="8827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You set ruler guides aligned to horizontal or vertical ruler sett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argin Guid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124000" y="2048040"/>
            <a:ext cx="4896000" cy="276192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17"/>
          <p:cNvSpPr/>
          <p:nvPr/>
        </p:nvSpPr>
        <p:spPr>
          <a:xfrm>
            <a:off x="2971800" y="4191120"/>
            <a:ext cx="17240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ft Margin 0.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13"/>
          <p:cNvSpPr/>
          <p:nvPr/>
        </p:nvSpPr>
        <p:spPr>
          <a:xfrm flipH="1">
            <a:off x="2590920" y="43290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943600" y="2743200"/>
            <a:ext cx="1736640" cy="247320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le 19"/>
          <p:cNvSpPr/>
          <p:nvPr/>
        </p:nvSpPr>
        <p:spPr>
          <a:xfrm>
            <a:off x="3276720" y="2990880"/>
            <a:ext cx="17240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p Margin 0.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4"/>
          <p:cNvSpPr/>
          <p:nvPr/>
        </p:nvSpPr>
        <p:spPr>
          <a:xfrm flipV="1">
            <a:off x="4040280" y="2491920"/>
            <a:ext cx="0" cy="49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icture Placeholder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Rounded Rectangle 3"/>
          <p:cNvSpPr/>
          <p:nvPr/>
        </p:nvSpPr>
        <p:spPr>
          <a:xfrm>
            <a:off x="6095880" y="2666880"/>
            <a:ext cx="17240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Blank Picture Placehol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13"/>
          <p:cNvSpPr/>
          <p:nvPr/>
        </p:nvSpPr>
        <p:spPr>
          <a:xfrm flipH="1">
            <a:off x="5715000" y="28814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"/>
          <p:cNvGrpSpPr/>
          <p:nvPr/>
        </p:nvGrpSpPr>
        <p:grpSpPr>
          <a:xfrm>
            <a:off x="2438280" y="2133720"/>
            <a:ext cx="3444840" cy="2651040"/>
            <a:chOff x="2438280" y="2133720"/>
            <a:chExt cx="3444840" cy="2651040"/>
          </a:xfrm>
        </p:grpSpPr>
        <p:pic>
          <p:nvPicPr>
            <p:cNvPr id="75" name="Picture 1" descr=""/>
            <p:cNvPicPr/>
            <p:nvPr/>
          </p:nvPicPr>
          <p:blipFill>
            <a:blip r:embed="rId1"/>
            <a:stretch/>
          </p:blipFill>
          <p:spPr>
            <a:xfrm>
              <a:off x="2438280" y="2133720"/>
              <a:ext cx="3444840" cy="26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1"/>
            <p:cNvSpPr/>
            <p:nvPr/>
          </p:nvSpPr>
          <p:spPr>
            <a:xfrm>
              <a:off x="2619000" y="2495520"/>
              <a:ext cx="83808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Format Text Box Dialog Box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481040"/>
          <a:ext cx="4648320" cy="3929040"/>
        </p:xfrm>
        <a:graphic>
          <a:graphicData uri="http://schemas.openxmlformats.org/drawingml/2006/table">
            <a:tbl>
              <a:tblPr/>
              <a:tblGrid>
                <a:gridCol w="1208160"/>
                <a:gridCol w="3440160"/>
              </a:tblGrid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s and L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s the options for applying or changing a fill, a line color or weight, or a patter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3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s the options for setting the height, width, and degree of rotation of a text box. A text box can also be scaled in this tab. Checking th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k aspect rati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eck box enables you to resize the image while keeping its proportion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3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s the options for proper positioning of a text box on the page. You can also set how you would like text to wrap when there is overla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96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Bo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s the options for text alignment and setting the margins. There are also tools available for specifying how text is accommodating and oriented in a textbox. You can also set the number of columns and the space between them in th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alog box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s the options for setting alternative text to be displayed when a page is viewed in a browse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946680" cy="4206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ynamic Guid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447920" y="1325520"/>
            <a:ext cx="5559480" cy="438948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6"/>
          <p:cNvSpPr/>
          <p:nvPr/>
        </p:nvSpPr>
        <p:spPr>
          <a:xfrm>
            <a:off x="4987800" y="3200400"/>
            <a:ext cx="2000520" cy="8827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ynamic guides allow you to see a moving object’s position in relation to other objects or page margi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14"/>
          <p:cNvSpPr/>
          <p:nvPr/>
        </p:nvSpPr>
        <p:spPr>
          <a:xfrm flipV="1">
            <a:off x="5902200" y="2709360"/>
            <a:ext cx="0" cy="49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inked Text Box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5" name="Group 1"/>
          <p:cNvGrpSpPr/>
          <p:nvPr/>
        </p:nvGrpSpPr>
        <p:grpSpPr>
          <a:xfrm>
            <a:off x="2514600" y="1295280"/>
            <a:ext cx="4467240" cy="4859280"/>
            <a:chOff x="2514600" y="1295280"/>
            <a:chExt cx="4467240" cy="4859280"/>
          </a:xfrm>
        </p:grpSpPr>
        <p:pic>
          <p:nvPicPr>
            <p:cNvPr id="86" name="Picture 1" descr=""/>
            <p:cNvPicPr/>
            <p:nvPr/>
          </p:nvPicPr>
          <p:blipFill>
            <a:blip r:embed="rId1"/>
            <a:stretch/>
          </p:blipFill>
          <p:spPr>
            <a:xfrm>
              <a:off x="2514600" y="1295280"/>
              <a:ext cx="3886200" cy="48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Line 314"/>
            <p:cNvSpPr/>
            <p:nvPr/>
          </p:nvSpPr>
          <p:spPr>
            <a:xfrm flipV="1">
              <a:off x="5886720" y="3554640"/>
              <a:ext cx="0" cy="49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ounded Rectangle 5"/>
            <p:cNvSpPr/>
            <p:nvPr/>
          </p:nvSpPr>
          <p:spPr>
            <a:xfrm>
              <a:off x="5257800" y="4038840"/>
              <a:ext cx="172404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ked Text Box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6"/>
            <p:cNvSpPr/>
            <p:nvPr/>
          </p:nvSpPr>
          <p:spPr>
            <a:xfrm>
              <a:off x="2692440" y="3803400"/>
              <a:ext cx="2209680" cy="122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Arial"/>
                </a:rPr>
                <a:t>Every time you produce your newsletter, ask yourself: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95959"/>
                  </a:solidFill>
                  <a:latin typeface="Arial"/>
                </a:rPr>
                <a:t>Q: Who are our readers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Arial"/>
                </a:rPr>
                <a:t>A: Existing customers and potential customers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95959"/>
                  </a:solidFill>
                  <a:latin typeface="Arial"/>
                </a:rPr>
                <a:t>Q: What will our readers want to know about our business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Arial"/>
                </a:rPr>
                <a:t>A: Timely, helpful, problem-solving information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13"/>
            <p:cNvSpPr/>
            <p:nvPr/>
          </p:nvSpPr>
          <p:spPr>
            <a:xfrm flipH="1">
              <a:off x="4759200" y="4191480"/>
              <a:ext cx="49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7"/>
            <p:cNvSpPr/>
            <p:nvPr/>
          </p:nvSpPr>
          <p:spPr>
            <a:xfrm>
              <a:off x="2694600" y="5313600"/>
              <a:ext cx="2270160" cy="84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Arial"/>
                </a:rPr>
                <a:t>Keep your content current. If you publish a monthly newsletter, ensure you include content from the last month only. Use photos and other visuals to add interest and enable the reader to scan quickly for information.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lumns in a Text Box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4700" t="0" r="0" b="0"/>
          <a:stretch/>
        </p:blipFill>
        <p:spPr>
          <a:xfrm>
            <a:off x="1447920" y="1828800"/>
            <a:ext cx="2895480" cy="3419640"/>
          </a:xfrm>
          <a:prstGeom prst="rect">
            <a:avLst/>
          </a:prstGeom>
          <a:ln w="0">
            <a:noFill/>
          </a:ln>
        </p:spPr>
      </p:pic>
      <p:sp>
        <p:nvSpPr>
          <p:cNvPr id="94" name="Rounded Rectangle 12"/>
          <p:cNvSpPr/>
          <p:nvPr/>
        </p:nvSpPr>
        <p:spPr>
          <a:xfrm>
            <a:off x="1968480" y="5030640"/>
            <a:ext cx="1854360" cy="4352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ingle-Column Text Bo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1488960" y="4114800"/>
            <a:ext cx="2743200" cy="84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Arial"/>
              </a:rPr>
              <a:t>Keep your content current. If you publish a monthly newsletter, ensure you include content from the last month only. Use photos and other visuals to add interest and enable the reader to scan quickly for informatio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486080" y="2239920"/>
            <a:ext cx="304560" cy="1265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1490760" y="2209680"/>
            <a:ext cx="26334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Arial"/>
              </a:rPr>
              <a:t>Every time you produce your newsletter, ask yourself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Arial"/>
              </a:rPr>
              <a:t>Q: Who are our reader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Arial"/>
              </a:rPr>
              <a:t>A: Existing customers and potential custom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Arial"/>
              </a:rPr>
              <a:t>Q: What will our readers want to know about our busines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Arial"/>
              </a:rPr>
              <a:t>A: Timely, helpful, problem-solving inform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4648320" y="2039760"/>
            <a:ext cx="2755800" cy="3413160"/>
            <a:chOff x="4648320" y="2039760"/>
            <a:chExt cx="2755800" cy="3413160"/>
          </a:xfrm>
        </p:grpSpPr>
        <p:pic>
          <p:nvPicPr>
            <p:cNvPr id="99" name="Picture 6" descr=""/>
            <p:cNvPicPr/>
            <p:nvPr/>
          </p:nvPicPr>
          <p:blipFill>
            <a:blip r:embed="rId2"/>
            <a:srcRect l="3823" t="0" r="0" b="0"/>
            <a:stretch/>
          </p:blipFill>
          <p:spPr>
            <a:xfrm>
              <a:off x="4648320" y="2039760"/>
              <a:ext cx="2755800" cy="32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1"/>
            <p:cNvSpPr/>
            <p:nvPr/>
          </p:nvSpPr>
          <p:spPr>
            <a:xfrm>
              <a:off x="5988960" y="2514960"/>
              <a:ext cx="131436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Arial"/>
                </a:rPr>
                <a:t>Keep your content current. If you publish a monthly newsletter, ensure you include content from the last month only. Use photos and other visuals to add interest and enable the reader to scan quickly for information.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"/>
            <p:cNvSpPr/>
            <p:nvPr/>
          </p:nvSpPr>
          <p:spPr>
            <a:xfrm>
              <a:off x="4705200" y="2763720"/>
              <a:ext cx="685800" cy="838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4724280" y="3611880"/>
              <a:ext cx="685800" cy="838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4700520" y="3740760"/>
              <a:ext cx="342720" cy="1410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8"/>
            <p:cNvSpPr/>
            <p:nvPr/>
          </p:nvSpPr>
          <p:spPr>
            <a:xfrm>
              <a:off x="4718880" y="2709360"/>
              <a:ext cx="1264320" cy="240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Arial"/>
                </a:rPr>
                <a:t>Every time you produce your newsletter, ask yourself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Arial"/>
                </a:rPr>
                <a:t>Q: Who are our readers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Arial"/>
                </a:rPr>
                <a:t>A: Existing customers and potential customer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Arial"/>
                </a:rPr>
                <a:t>Q: What will our readers want to know about our business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Arial"/>
                </a:rPr>
                <a:t>A: Timely, helpful, problem-solving information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ounded Rectangle 13"/>
            <p:cNvSpPr/>
            <p:nvPr/>
          </p:nvSpPr>
          <p:spPr>
            <a:xfrm>
              <a:off x="5061600" y="5020920"/>
              <a:ext cx="1854360" cy="432000"/>
            </a:xfrm>
            <a:prstGeom prst="roundRect">
              <a:avLst>
                <a:gd name="adj" fmla="val 16667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wo-Column Text Bo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12T20:27:42Z</dcterms:modified>
  <cp:revision>117</cp:revision>
  <dc:subject>Courseware Resource Supplement</dc:subject>
  <dc:title>OV-ILT Template –  Content Developer Section</dc:title>
</cp:coreProperties>
</file>