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024175-4D53-4479-8B94-C066CC59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440022-B30B-4A63-AED0-8135CCC6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3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051"/>
          <p:cNvSpPr/>
          <p:nvPr/>
        </p:nvSpPr>
        <p:spPr>
          <a:xfrm>
            <a:off x="457200" y="1066680"/>
            <a:ext cx="782172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ting Started with Publisher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Content to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ting Text in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iting Text in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and Formatting Graphics in a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ing a Publication for Sharing and Pr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279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3-14T19:24:00Z</dcterms:modified>
  <cp:revision>87</cp:revision>
  <dc:subject>Courseware Resource Supplement</dc:subject>
  <dc:title>OV-ILT Template –  Content Developer Section</dc:title>
</cp:coreProperties>
</file>