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6C7BB4-D6F3-4E08-B756-45C957DF8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F93602-1599-4B03-ADAE-2E2A1D2F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19BF83-37E3-40AA-8114-01A9463A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88F00B-CD1D-4878-A617-C30F98A8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E5F58E-3B5C-4C90-AF59-5DFDB175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8E4F14-FBF5-465E-834C-D20BD047D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772887-0818-4B11-915E-40F57794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1F17E7-84F6-43EA-8143-859C4860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63276B-2DB4-4EC8-8140-45687070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07B6F5-E694-41C3-9E50-041906E49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A5E300-290D-4624-9F84-74C6FEB0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B51B72-912F-4C64-A893-5487265C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7284049F-61FC-46C7-A6A8-F6741E4D2A28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051"/>
          <p:cNvSpPr/>
          <p:nvPr/>
        </p:nvSpPr>
        <p:spPr>
          <a:xfrm>
            <a:off x="457200" y="1008000"/>
            <a:ext cx="72118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e th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 the Publish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2714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etting Started with Publish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ge Navigation Pa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917880" y="1143000"/>
            <a:ext cx="1247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Quick Access Toolba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36708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Line 89"/>
          <p:cNvSpPr/>
          <p:nvPr/>
        </p:nvSpPr>
        <p:spPr>
          <a:xfrm flipH="1" flipV="1">
            <a:off x="4648320" y="3200400"/>
            <a:ext cx="653760" cy="155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5310360" y="320040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Quick Access Tool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2895480" y="2895480"/>
            <a:ext cx="2406600" cy="3049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9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elp Wind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682720" y="1324080"/>
            <a:ext cx="3565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ublisher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47920" y="1181160"/>
            <a:ext cx="6400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ustomize Ribbon Tab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405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reate New Business Information Se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052720" y="1547640"/>
            <a:ext cx="503856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ublisher Online Templat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Rounded Rectangle 4"/>
          <p:cNvSpPr/>
          <p:nvPr/>
        </p:nvSpPr>
        <p:spPr>
          <a:xfrm>
            <a:off x="6303960" y="1371600"/>
            <a:ext cx="2081160" cy="12952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crosoft Office Online provides hundreds of Publisher templates to use as starting points for your pub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"/>
          <p:cNvGrpSpPr/>
          <p:nvPr/>
        </p:nvGrpSpPr>
        <p:grpSpPr>
          <a:xfrm>
            <a:off x="1341360" y="1066680"/>
            <a:ext cx="6583320" cy="5302440"/>
            <a:chOff x="1341360" y="1066680"/>
            <a:chExt cx="6583320" cy="53024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1341360" y="1066680"/>
              <a:ext cx="6583320" cy="530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5"/>
            <p:cNvSpPr/>
            <p:nvPr/>
          </p:nvSpPr>
          <p:spPr>
            <a:xfrm>
              <a:off x="4911480" y="1095840"/>
              <a:ext cx="228600" cy="1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1108080"/>
            <a:ext cx="82296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of the customization options do you think you will use most of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ddc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the type of publication (brochure, flyer, card, poster) will influence the kinds of design elements you can u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Publisher 2013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036520" cy="208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233880" y="1614600"/>
            <a:ext cx="2676240" cy="362880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16"/>
          <p:cNvSpPr/>
          <p:nvPr/>
        </p:nvSpPr>
        <p:spPr>
          <a:xfrm>
            <a:off x="4781520" y="395928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ublisher is part of Microsoft’s Office su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ublisher Interfac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AutoShape 303"/>
          <p:cNvSpPr/>
          <p:nvPr/>
        </p:nvSpPr>
        <p:spPr>
          <a:xfrm flipH="1">
            <a:off x="1828080" y="2971800"/>
            <a:ext cx="228600" cy="2438280"/>
          </a:xfrm>
          <a:custGeom>
            <a:avLst/>
            <a:gdLst>
              <a:gd name="textAreaLeft" fmla="*/ 0 w 228600"/>
              <a:gd name="textAreaRight" fmla="*/ 82440 w 228600"/>
              <a:gd name="textAreaTop" fmla="*/ 47160 h 2438280"/>
              <a:gd name="textAreaBottom" fmla="*/ 23911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8"/>
                  <a:pt x="10800" y="1335"/>
                </a:cubicBezTo>
                <a:lnTo>
                  <a:pt x="10800" y="9465"/>
                </a:lnTo>
                <a:cubicBezTo>
                  <a:pt x="10800" y="10133"/>
                  <a:pt x="16200" y="10800"/>
                  <a:pt x="21600" y="10800"/>
                </a:cubicBezTo>
                <a:cubicBezTo>
                  <a:pt x="16200" y="10800"/>
                  <a:pt x="10800" y="11468"/>
                  <a:pt x="10800" y="12135"/>
                </a:cubicBezTo>
                <a:lnTo>
                  <a:pt x="10800" y="20265"/>
                </a:lnTo>
                <a:cubicBezTo>
                  <a:pt x="10800" y="2093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276120" y="3992400"/>
            <a:ext cx="1476360" cy="35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ge Navigation P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3"/>
          <p:cNvSpPr/>
          <p:nvPr/>
        </p:nvSpPr>
        <p:spPr>
          <a:xfrm flipH="1">
            <a:off x="1713960" y="2127240"/>
            <a:ext cx="228600" cy="549360"/>
          </a:xfrm>
          <a:custGeom>
            <a:avLst/>
            <a:gdLst>
              <a:gd name="textAreaLeft" fmla="*/ 0 w 228600"/>
              <a:gd name="textAreaRight" fmla="*/ 82440 w 228600"/>
              <a:gd name="textAreaTop" fmla="*/ 47160 h 549360"/>
              <a:gd name="textAreaBottom" fmla="*/ 50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66"/>
                  <a:pt x="10800" y="5932"/>
                </a:cubicBezTo>
                <a:lnTo>
                  <a:pt x="10800" y="4868"/>
                </a:lnTo>
                <a:cubicBezTo>
                  <a:pt x="10800" y="7834"/>
                  <a:pt x="16200" y="10800"/>
                  <a:pt x="21600" y="10800"/>
                </a:cubicBezTo>
                <a:cubicBezTo>
                  <a:pt x="16200" y="10800"/>
                  <a:pt x="10800" y="13766"/>
                  <a:pt x="10800" y="16732"/>
                </a:cubicBezTo>
                <a:lnTo>
                  <a:pt x="10800" y="15668"/>
                </a:lnTo>
                <a:cubicBezTo>
                  <a:pt x="10800" y="186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62120" y="2286000"/>
            <a:ext cx="914400" cy="18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b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02"/>
          <p:cNvSpPr/>
          <p:nvPr/>
        </p:nvSpPr>
        <p:spPr>
          <a:xfrm flipH="1" rot="5400000">
            <a:off x="2411280" y="1267920"/>
            <a:ext cx="206280" cy="914400"/>
          </a:xfrm>
          <a:custGeom>
            <a:avLst/>
            <a:gdLst>
              <a:gd name="textAreaLeft" fmla="*/ 0 w 206280"/>
              <a:gd name="textAreaRight" fmla="*/ 74520 w 206280"/>
              <a:gd name="textAreaTop" fmla="*/ 42480 h 914400"/>
              <a:gd name="textAreaBottom" fmla="*/ 871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07"/>
                  <a:pt x="10800" y="3213"/>
                </a:cubicBezTo>
                <a:lnTo>
                  <a:pt x="10800" y="7587"/>
                </a:lnTo>
                <a:cubicBezTo>
                  <a:pt x="10800" y="9194"/>
                  <a:pt x="16200" y="10800"/>
                  <a:pt x="21600" y="10800"/>
                </a:cubicBezTo>
                <a:cubicBezTo>
                  <a:pt x="16200" y="10800"/>
                  <a:pt x="10800" y="12407"/>
                  <a:pt x="10800" y="14013"/>
                </a:cubicBezTo>
                <a:lnTo>
                  <a:pt x="10800" y="18387"/>
                </a:lnTo>
                <a:cubicBezTo>
                  <a:pt x="10800" y="1999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0"/>
          <p:cNvSpPr/>
          <p:nvPr/>
        </p:nvSpPr>
        <p:spPr>
          <a:xfrm>
            <a:off x="1752480" y="1219320"/>
            <a:ext cx="147636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ick Access Tool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4541760" y="1494000"/>
            <a:ext cx="1096920" cy="18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 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7"/>
          <p:cNvSpPr/>
          <p:nvPr/>
        </p:nvSpPr>
        <p:spPr>
          <a:xfrm flipH="1">
            <a:off x="5105520" y="1676520"/>
            <a:ext cx="9360" cy="27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4"/>
          <p:cNvSpPr/>
          <p:nvPr/>
        </p:nvSpPr>
        <p:spPr>
          <a:xfrm flipV="1">
            <a:off x="8077320" y="526860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5"/>
          <p:cNvSpPr/>
          <p:nvPr/>
        </p:nvSpPr>
        <p:spPr>
          <a:xfrm>
            <a:off x="7483320" y="5715000"/>
            <a:ext cx="127980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ratch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4"/>
          <p:cNvSpPr/>
          <p:nvPr/>
        </p:nvSpPr>
        <p:spPr>
          <a:xfrm flipV="1">
            <a:off x="4479840" y="5520960"/>
            <a:ext cx="0" cy="49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7"/>
          <p:cNvSpPr/>
          <p:nvPr/>
        </p:nvSpPr>
        <p:spPr>
          <a:xfrm>
            <a:off x="3886200" y="5821200"/>
            <a:ext cx="127944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2057400" y="1905120"/>
            <a:ext cx="6500880" cy="3657600"/>
            <a:chOff x="2057400" y="1905120"/>
            <a:chExt cx="6500880" cy="3657600"/>
          </a:xfrm>
        </p:grpSpPr>
        <p:pic>
          <p:nvPicPr>
            <p:cNvPr id="69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905120"/>
              <a:ext cx="6500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"/>
            <p:cNvSpPr/>
            <p:nvPr/>
          </p:nvSpPr>
          <p:spPr>
            <a:xfrm>
              <a:off x="5793480" y="1946160"/>
              <a:ext cx="228600" cy="1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ibb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2666880" y="3276720"/>
            <a:ext cx="1828800" cy="6858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7"/>
          <p:cNvSpPr/>
          <p:nvPr/>
        </p:nvSpPr>
        <p:spPr>
          <a:xfrm flipH="1">
            <a:off x="3276720" y="2354400"/>
            <a:ext cx="9360" cy="88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2629080" y="186048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commands on the ribbon are grouped according to their functiona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106200" y="2909880"/>
            <a:ext cx="8961480" cy="1017720"/>
            <a:chOff x="106200" y="2909880"/>
            <a:chExt cx="8961480" cy="1017720"/>
          </a:xfrm>
        </p:grpSpPr>
        <p:pic>
          <p:nvPicPr>
            <p:cNvPr id="76" name="Picture 2" descr=""/>
            <p:cNvPicPr/>
            <p:nvPr/>
          </p:nvPicPr>
          <p:blipFill>
            <a:blip r:embed="rId1"/>
            <a:stretch/>
          </p:blipFill>
          <p:spPr>
            <a:xfrm>
              <a:off x="106200" y="2909880"/>
              <a:ext cx="89614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6"/>
            <p:cNvSpPr/>
            <p:nvPr/>
          </p:nvSpPr>
          <p:spPr>
            <a:xfrm>
              <a:off x="6609600" y="2927160"/>
              <a:ext cx="228600" cy="1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ibbon Keyboard Shortcu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52600" y="2738520"/>
            <a:ext cx="66088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alog Box Launche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523880" y="1851120"/>
            <a:ext cx="5697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extual Tab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4743720" cy="192096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le 4"/>
          <p:cNvSpPr/>
          <p:nvPr/>
        </p:nvSpPr>
        <p:spPr>
          <a:xfrm>
            <a:off x="2057400" y="2362320"/>
            <a:ext cx="2000160" cy="8823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textual tabs appear on the ribbon wh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 object requiring additional functionality is sel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"/>
          <p:cNvSpPr/>
          <p:nvPr/>
        </p:nvSpPr>
        <p:spPr>
          <a:xfrm>
            <a:off x="4040280" y="2803680"/>
            <a:ext cx="83664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ustomize Status Bar Menu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Line 89"/>
          <p:cNvSpPr/>
          <p:nvPr/>
        </p:nvSpPr>
        <p:spPr>
          <a:xfrm flipH="1" flipV="1">
            <a:off x="4998600" y="5068800"/>
            <a:ext cx="381240" cy="14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5388120" y="5060880"/>
            <a:ext cx="2000160" cy="88272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You can access the Customize Status Bar menu by right-clicking the status b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655560" y="1467000"/>
            <a:ext cx="7954920" cy="4086000"/>
            <a:chOff x="655560" y="1467000"/>
            <a:chExt cx="7954920" cy="408600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tretch/>
          </p:blipFill>
          <p:spPr>
            <a:xfrm>
              <a:off x="655560" y="1467000"/>
              <a:ext cx="7954920" cy="40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6"/>
            <p:cNvSpPr/>
            <p:nvPr/>
          </p:nvSpPr>
          <p:spPr>
            <a:xfrm>
              <a:off x="5396040" y="1534320"/>
              <a:ext cx="228600" cy="1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Backstage Vie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5638680" y="1447920"/>
            <a:ext cx="2000520" cy="88236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Backstage view gives you access to many of the most commonly used features and comm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380880" y="1066680"/>
            <a:ext cx="8412120" cy="5058000"/>
            <a:chOff x="380880" y="1066680"/>
            <a:chExt cx="8412120" cy="5058000"/>
          </a:xfrm>
        </p:grpSpPr>
        <p:pic>
          <p:nvPicPr>
            <p:cNvPr id="95" name="Picture 1" descr=""/>
            <p:cNvPicPr/>
            <p:nvPr/>
          </p:nvPicPr>
          <p:blipFill>
            <a:blip r:embed="rId1"/>
            <a:stretch/>
          </p:blipFill>
          <p:spPr>
            <a:xfrm>
              <a:off x="380880" y="1066680"/>
              <a:ext cx="8412120" cy="50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4"/>
            <p:cNvSpPr/>
            <p:nvPr/>
          </p:nvSpPr>
          <p:spPr>
            <a:xfrm>
              <a:off x="4860000" y="1087560"/>
              <a:ext cx="228600" cy="10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12T20:38:59Z</dcterms:modified>
  <cp:revision>127</cp:revision>
  <dc:subject>Courseware Resource Supplement</dc:subject>
  <dc:title>OV-ILT Template –  Content Developer Section</dc:title>
</cp:coreProperties>
</file>