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7521F89-EC65-41C8-BB92-2DF80463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6930C9-6967-4121-88A7-BD4FF3C8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C099F9-B272-45F7-A609-8D7D973C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2A371D-CB90-4251-A9E5-41325B1F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E0CA8CF-E314-4416-903D-AA912FC0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E785A3-493B-4A4C-BF79-21F70780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01CD134C-9144-43C0-AE33-6A7AE5F2218C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051"/>
          <p:cNvSpPr/>
          <p:nvPr/>
        </p:nvSpPr>
        <p:spPr>
          <a:xfrm>
            <a:off x="457200" y="1066680"/>
            <a:ext cx="728820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 Text and Para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 Paragraph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272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Formatting Text in a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ypography Group on the Ribb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1036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3"/>
          <p:cNvSpPr/>
          <p:nvPr/>
        </p:nvSpPr>
        <p:spPr>
          <a:xfrm>
            <a:off x="4343400" y="1676520"/>
            <a:ext cx="3784680" cy="1218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9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646200" y="2286000"/>
            <a:ext cx="3657600" cy="40464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89"/>
          <p:cNvGrpSpPr/>
          <p:nvPr/>
        </p:nvGrpSpPr>
        <p:grpSpPr>
          <a:xfrm>
            <a:off x="4347000" y="2879640"/>
            <a:ext cx="3754440" cy="408240"/>
            <a:chOff x="4347000" y="2879640"/>
            <a:chExt cx="3754440" cy="408240"/>
          </a:xfrm>
        </p:grpSpPr>
        <p:sp>
          <p:nvSpPr>
            <p:cNvPr id="56" name="Line 290"/>
            <p:cNvSpPr/>
            <p:nvPr/>
          </p:nvSpPr>
          <p:spPr>
            <a:xfrm>
              <a:off x="8015040" y="2879640"/>
              <a:ext cx="0" cy="4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1"/>
            <p:cNvSpPr/>
            <p:nvPr/>
          </p:nvSpPr>
          <p:spPr>
            <a:xfrm>
              <a:off x="4347000" y="3287880"/>
              <a:ext cx="375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ounded Rectangle 9"/>
          <p:cNvSpPr/>
          <p:nvPr/>
        </p:nvSpPr>
        <p:spPr>
          <a:xfrm>
            <a:off x="4191120" y="4033800"/>
            <a:ext cx="1724040" cy="2761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Font Dialog Bo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Mini Toolbar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533520" y="1233360"/>
            <a:ext cx="4498920" cy="265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576600" y="2413080"/>
            <a:ext cx="474840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Rounded Rectangle 4"/>
          <p:cNvSpPr/>
          <p:nvPr/>
        </p:nvSpPr>
        <p:spPr>
          <a:xfrm>
            <a:off x="2438280" y="3738600"/>
            <a:ext cx="1981440" cy="3762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i Toolbar with Text Comm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5"/>
          <p:cNvSpPr/>
          <p:nvPr/>
        </p:nvSpPr>
        <p:spPr>
          <a:xfrm>
            <a:off x="6172200" y="4373640"/>
            <a:ext cx="1905120" cy="42696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i Toolbar with Image Comm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7"/>
          <p:cNvSpPr/>
          <p:nvPr/>
        </p:nvSpPr>
        <p:spPr>
          <a:xfrm>
            <a:off x="3657600" y="2703600"/>
            <a:ext cx="0" cy="1035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7"/>
          <p:cNvSpPr/>
          <p:nvPr/>
        </p:nvSpPr>
        <p:spPr>
          <a:xfrm>
            <a:off x="7462800" y="3738600"/>
            <a:ext cx="8100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pecial Character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228760" y="1523880"/>
            <a:ext cx="388008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200560" y="2666880"/>
            <a:ext cx="2343240" cy="180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" name="Rounded Rectangle 5"/>
          <p:cNvSpPr/>
          <p:nvPr/>
        </p:nvSpPr>
        <p:spPr>
          <a:xfrm>
            <a:off x="3067200" y="4800600"/>
            <a:ext cx="1981080" cy="37620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xt showing paragraph marks and line brea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7"/>
          <p:cNvSpPr/>
          <p:nvPr/>
        </p:nvSpPr>
        <p:spPr>
          <a:xfrm flipH="1">
            <a:off x="4209840" y="3581280"/>
            <a:ext cx="990360" cy="1171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7"/>
          <p:cNvSpPr/>
          <p:nvPr/>
        </p:nvSpPr>
        <p:spPr>
          <a:xfrm flipH="1">
            <a:off x="5048280" y="3890880"/>
            <a:ext cx="2362320" cy="909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aragraph Dialog Box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2768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aragraph Styles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9527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35240" y="26820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66120" cy="367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1828800" cy="5241960"/>
          </a:xfrm>
          <a:prstGeom prst="rect">
            <a:avLst/>
          </a:prstGeom>
          <a:ln w="0">
            <a:noFill/>
          </a:ln>
        </p:spPr>
      </p:pic>
      <p:sp>
        <p:nvSpPr>
          <p:cNvPr id="79" name="Rounded Rectangle 7"/>
          <p:cNvSpPr/>
          <p:nvPr/>
        </p:nvSpPr>
        <p:spPr>
          <a:xfrm>
            <a:off x="958680" y="4038480"/>
            <a:ext cx="172404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lor Sche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8"/>
          <p:cNvSpPr/>
          <p:nvPr/>
        </p:nvSpPr>
        <p:spPr>
          <a:xfrm>
            <a:off x="6499080" y="5086440"/>
            <a:ext cx="1724040" cy="274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nt Sche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raits do you think are most important for the best appearance of text on a pag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think that you will use styles and schemes in your publica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3-14T19:25:51Z</dcterms:modified>
  <cp:revision>121</cp:revision>
  <dc:subject>Courseware Resource Supplement</dc:subject>
  <dc:title>OV-ILT Template –  Content Developer Section</dc:title>
</cp:coreProperties>
</file>