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23C340-5B7B-4A15-BF46-C5AB7A9C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17288A5-260C-4065-899A-80C82F755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E89C2D0-ECB7-42B4-AEE2-F1274F35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4 - </a:t>
            </a:r>
            <a:fld id="{CF380472-8806-4769-B6F7-A7230C48EB83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5760"/>
            <a:ext cx="68533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diting Text in a Public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it Text in a 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 Content in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ert Symbols and Special Charac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09760" y="2890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aste Special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1530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501480" y="28404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759040" y="2336760"/>
            <a:ext cx="5394240" cy="36068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302"/>
          <p:cNvSpPr/>
          <p:nvPr/>
        </p:nvSpPr>
        <p:spPr>
          <a:xfrm rot="16200000">
            <a:off x="6051240" y="447120"/>
            <a:ext cx="196920" cy="3581280"/>
          </a:xfrm>
          <a:custGeom>
            <a:avLst/>
            <a:gdLst>
              <a:gd name="textAreaLeft" fmla="*/ 0 w 196920"/>
              <a:gd name="textAreaRight" fmla="*/ 70920 w 196920"/>
              <a:gd name="textAreaTop" fmla="*/ 40680 h 3581280"/>
              <a:gd name="textAreaBottom" fmla="*/ 354060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2"/>
                  <a:pt x="10800" y="784"/>
                </a:cubicBezTo>
                <a:lnTo>
                  <a:pt x="10800" y="10016"/>
                </a:lnTo>
                <a:cubicBezTo>
                  <a:pt x="10800" y="10408"/>
                  <a:pt x="16200" y="10800"/>
                  <a:pt x="21600" y="10800"/>
                </a:cubicBezTo>
                <a:cubicBezTo>
                  <a:pt x="16200" y="10800"/>
                  <a:pt x="10800" y="11192"/>
                  <a:pt x="10800" y="11584"/>
                </a:cubicBezTo>
                <a:lnTo>
                  <a:pt x="10800" y="20816"/>
                </a:lnTo>
                <a:cubicBezTo>
                  <a:pt x="10800" y="2120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03"/>
          <p:cNvSpPr/>
          <p:nvPr/>
        </p:nvSpPr>
        <p:spPr>
          <a:xfrm flipH="1">
            <a:off x="2301120" y="2590920"/>
            <a:ext cx="327240" cy="3200400"/>
          </a:xfrm>
          <a:custGeom>
            <a:avLst/>
            <a:gdLst>
              <a:gd name="textAreaLeft" fmla="*/ -360 w 327240"/>
              <a:gd name="textAreaRight" fmla="*/ 117720 w 327240"/>
              <a:gd name="textAreaTop" fmla="*/ 67320 h 3200400"/>
              <a:gd name="textAreaBottom" fmla="*/ 313308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8"/>
                  <a:pt x="10800" y="1455"/>
                </a:cubicBezTo>
                <a:lnTo>
                  <a:pt x="10800" y="9345"/>
                </a:lnTo>
                <a:cubicBezTo>
                  <a:pt x="10800" y="10073"/>
                  <a:pt x="16200" y="10800"/>
                  <a:pt x="21600" y="10800"/>
                </a:cubicBezTo>
                <a:cubicBezTo>
                  <a:pt x="16200" y="10800"/>
                  <a:pt x="10800" y="11528"/>
                  <a:pt x="10800" y="12255"/>
                </a:cubicBezTo>
                <a:lnTo>
                  <a:pt x="10800" y="20145"/>
                </a:lnTo>
                <a:cubicBezTo>
                  <a:pt x="10800" y="2087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6"/>
          <p:cNvSpPr/>
          <p:nvPr/>
        </p:nvSpPr>
        <p:spPr>
          <a:xfrm>
            <a:off x="512640" y="4052880"/>
            <a:ext cx="17240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5288040" y="1782720"/>
            <a:ext cx="17240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5514840" y="6019920"/>
            <a:ext cx="17240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4"/>
          <p:cNvSpPr/>
          <p:nvPr/>
        </p:nvSpPr>
        <p:spPr>
          <a:xfrm flipH="1" flipV="1">
            <a:off x="6377040" y="5410080"/>
            <a:ext cx="2376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867280" y="5295960"/>
            <a:ext cx="731880" cy="19044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33440" y="281160"/>
            <a:ext cx="55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TABLE TOOLS Contextual 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433440" y="2255760"/>
            <a:ext cx="832968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423720" y="4130640"/>
            <a:ext cx="8332920" cy="1096920"/>
          </a:xfrm>
          <a:prstGeom prst="rect">
            <a:avLst/>
          </a:prstGeom>
          <a:ln w="0">
            <a:noFill/>
          </a:ln>
        </p:spPr>
      </p:pic>
      <p:sp>
        <p:nvSpPr>
          <p:cNvPr id="65" name="Rounded Rectangle 4"/>
          <p:cNvSpPr/>
          <p:nvPr/>
        </p:nvSpPr>
        <p:spPr>
          <a:xfrm>
            <a:off x="638280" y="1782720"/>
            <a:ext cx="31082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BLE TOOLS DESIGN Contextual Ta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638280" y="3733920"/>
            <a:ext cx="320040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BLE TOOLS LAYOUT Contextual Ta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57200" y="2811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87520" y="1447920"/>
            <a:ext cx="605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457200" y="2811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pecial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573200" y="1676520"/>
            <a:ext cx="6054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es the writing process happen in your organiz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kinds of information would be best expressed in a table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3-14T19:31:19Z</dcterms:modified>
  <cp:revision>98</cp:revision>
  <dc:subject>Courseware Resource Supplement</dc:subject>
  <dc:title>OV-ILT Template –  Content Developer Section</dc:title>
</cp:coreProperties>
</file>